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3FA-303B-4041-BADD-BE66896B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A89-FDDB-4BBA-B470-151E4E2B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F6F-DE66-489E-BB76-B2293F74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A26-B2EE-46D0-9B8D-1D2B5FEF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3B8E-CB90-496D-812D-815BF236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089D-E15D-48E9-B1C9-7CA29336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5D5A-B0B9-45D4-BA54-3C7F2ED2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FA9E-05F1-467E-949E-4552F337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87BC-E191-4F61-9218-2B80B4A6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E98-D240-45AD-9290-E3D8E677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2877-1D4C-4B3B-9EEB-27E9E9A3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046-C695-43EE-B0F4-2E244733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8A2C-315B-42F0-876C-EAD780C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458A-E025-4E19-BFC0-F60C25C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E5F0-04BE-4656-B063-ED7C59B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5655-AD59-45DA-92D6-2668F3F49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A89C-D3E7-4A9D-9CE8-6CFB46E1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9446-D6F7-4345-8AE3-7400F898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9DD87-EC77-4098-AFA8-8182AAFB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07963-B0E1-4C33-8281-799053A6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C6E4E-F78D-4C9F-8F9E-CD56E080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7B5CE-CBCF-46A9-9A75-B88719CA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478-272B-4B8E-87D9-17013E41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A50E8-5E6E-4864-814F-4D04C066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8723-B337-482B-A7F3-1B0A003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B7020-B8F5-4C70-8A61-DD90B712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C1EE5-8306-4C7A-8610-99B6E87A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DB20C-FFBB-424F-96F5-C0473A63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E612-8783-423B-A2B1-3BE4E862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69EF-D3DB-4647-A556-AB854F47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16F32-1507-4A85-B4D8-E4F63B9A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173FE-7950-4BCF-8278-21DFCB22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8204-C481-497C-9AAE-51561159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E64-B12B-4CEA-AA23-78F8539B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61C5-E5C0-4D1E-9E6A-37A8C715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A506-157E-4718-8B19-B9D0222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3CA7-445A-43F0-B332-684E5803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DC87-991D-465F-BDDC-98ECF12C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CFBCF-6B67-4E90-A57F-360E09C8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FC00B-D5AC-41B0-8932-AA2BCAD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1ACB-570A-4C3B-AD2A-6AF0013A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21A3F-9C90-4D8D-BAEA-B2617323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3761-2D81-4516-A3E8-4228D095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4199-A1C6-4A8D-8BA6-BD579F43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AFCB-5F85-4A23-849E-782E7BA7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B86-FDA7-4FFF-834B-AEA5E27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F93-B764-43CB-8A99-566517C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4F8-1218-4963-A890-AB8C6FDB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2D72-EA9B-4ED1-BB26-3AF3ADBFA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275-C56B-4DED-A21A-1181E3728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/2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1E3-8EB6-4D51-A427-D5CA42AC92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457200" y="304920"/>
            <a:ext cx="81532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57200" y="1447920"/>
            <a:ext cx="81532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/2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BDA5-FC75-41C0-899B-23CDEC13B3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Environmental Impacts of Water Withdrawal: Focus on Salmon</a:t>
            </a:r>
            <a:br>
              <a:rPr sz="4400"/>
            </a:br>
            <a:r>
              <a:rPr b="0" lang="en-US" sz="2000" spc="-1" strike="noStrike">
                <a:solidFill>
                  <a:srgbClr val="c6d9f1"/>
                </a:solidFill>
                <a:latin typeface="Calibri"/>
              </a:rPr>
              <a:t>Janne Kaje, KC Regional Partnerships Unit &amp; Snoqualmie Watershed For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5"/>
          <p:cNvSpPr/>
          <p:nvPr/>
        </p:nvSpPr>
        <p:spPr>
          <a:xfrm>
            <a:off x="419040" y="114300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419040" y="30481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PumpScreen1_self_cleaning.jpg"/>
          <p:cNvPicPr/>
          <p:nvPr/>
        </p:nvPicPr>
        <p:blipFill>
          <a:blip r:embed="rId1"/>
          <a:stretch/>
        </p:blipFill>
        <p:spPr>
          <a:xfrm>
            <a:off x="812880" y="3429000"/>
            <a:ext cx="223524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8" descr="ag_land.jpg"/>
          <p:cNvPicPr/>
          <p:nvPr/>
        </p:nvPicPr>
        <p:blipFill>
          <a:blip r:embed="rId2"/>
          <a:stretch/>
        </p:blipFill>
        <p:spPr>
          <a:xfrm>
            <a:off x="3352680" y="3429000"/>
            <a:ext cx="508644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Return Flow Qu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rrigation return water impacts qual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Usually WARMER in summ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Suspended sediment inpu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6d9f1"/>
                </a:solidFill>
                <a:latin typeface="Calibri"/>
              </a:rPr>
              <a:t>Clog gills and bury gravel substrat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Nutrient, chemical runoff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57200" y="4038480"/>
            <a:ext cx="175248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086600" y="4038480"/>
            <a:ext cx="1752480" cy="8384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own Arrow 7"/>
          <p:cNvSpPr/>
          <p:nvPr/>
        </p:nvSpPr>
        <p:spPr>
          <a:xfrm>
            <a:off x="7162920" y="426708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Arrow 10"/>
          <p:cNvSpPr/>
          <p:nvPr/>
        </p:nvSpPr>
        <p:spPr>
          <a:xfrm rot="16200000">
            <a:off x="343080" y="430488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Arrow 11"/>
          <p:cNvSpPr/>
          <p:nvPr/>
        </p:nvSpPr>
        <p:spPr>
          <a:xfrm>
            <a:off x="2438280" y="43434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ight Arrow 12"/>
          <p:cNvSpPr/>
          <p:nvPr/>
        </p:nvSpPr>
        <p:spPr>
          <a:xfrm>
            <a:off x="6324480" y="4267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4197240" y="61722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gae bl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6" descr="ShadowLake_Sept07_algaebloom.JPG"/>
          <p:cNvPicPr/>
          <p:nvPr/>
        </p:nvPicPr>
        <p:blipFill>
          <a:blip r:embed="rId1"/>
          <a:stretch/>
        </p:blipFill>
        <p:spPr>
          <a:xfrm>
            <a:off x="3657600" y="3886200"/>
            <a:ext cx="228600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Pumps &amp; Diver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 can get diverted into fields and stuck on intake scree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 protection is required by state la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RCW 77.57.010.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sh guards required on diversion devices — Penalties, remedies for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RCW 77.57.070.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iversion of water — Screen, bypass requi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aterways with Endangered Species Act listed fish, could be guilty of “take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64771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dfw.wa.gov/conservation/habitat/planning/screen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Fish Protection Techn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Content Placeholder 3" descr="Water%20Drive%20Diagram_intakescreensinc.jpg"/>
          <p:cNvPicPr/>
          <p:nvPr/>
        </p:nvPicPr>
        <p:blipFill>
          <a:blip r:embed="rId1"/>
          <a:stretch/>
        </p:blipFill>
        <p:spPr>
          <a:xfrm>
            <a:off x="5257800" y="3505320"/>
            <a:ext cx="2847960" cy="30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FarmScreen_shot2.jpg"/>
          <p:cNvPicPr/>
          <p:nvPr/>
        </p:nvPicPr>
        <p:blipFill>
          <a:blip r:embed="rId2"/>
          <a:stretch/>
        </p:blipFill>
        <p:spPr>
          <a:xfrm>
            <a:off x="304920" y="3524400"/>
            <a:ext cx="4647960" cy="310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Pump-Rite-T500_Passive.jpg"/>
          <p:cNvPicPr/>
          <p:nvPr/>
        </p:nvPicPr>
        <p:blipFill>
          <a:blip r:embed="rId3"/>
          <a:stretch/>
        </p:blipFill>
        <p:spPr>
          <a:xfrm>
            <a:off x="5257800" y="1600200"/>
            <a:ext cx="2819520" cy="1833480"/>
          </a:xfrm>
          <a:prstGeom prst="rect">
            <a:avLst/>
          </a:prstGeom>
          <a:ln w="0">
            <a:noFill/>
          </a:ln>
        </p:spPr>
      </p:pic>
      <p:pic>
        <p:nvPicPr>
          <p:cNvPr id="220" name="Content Placeholder 3" descr="Water%20Drive%20Diagram_intakescreensinc.jpg"/>
          <p:cNvPicPr/>
          <p:nvPr/>
        </p:nvPicPr>
        <p:blipFill>
          <a:blip r:embed="rId4"/>
          <a:stretch/>
        </p:blipFill>
        <p:spPr>
          <a:xfrm>
            <a:off x="5257800" y="3486240"/>
            <a:ext cx="28494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Picture 8" descr="FarmScreen_shot2.jpg"/>
          <p:cNvPicPr/>
          <p:nvPr/>
        </p:nvPicPr>
        <p:blipFill>
          <a:blip r:embed="rId5"/>
          <a:stretch/>
        </p:blipFill>
        <p:spPr>
          <a:xfrm>
            <a:off x="304920" y="3505320"/>
            <a:ext cx="4647960" cy="310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Picture 9" descr="Pump-Rite-T500_Passive.jpg"/>
          <p:cNvPicPr/>
          <p:nvPr/>
        </p:nvPicPr>
        <p:blipFill>
          <a:blip r:embed="rId6"/>
          <a:stretch/>
        </p:blipFill>
        <p:spPr>
          <a:xfrm>
            <a:off x="5257800" y="1581120"/>
            <a:ext cx="2819520" cy="183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3" name="Content Placeholder 2"/>
          <p:cNvSpPr/>
          <p:nvPr/>
        </p:nvSpPr>
        <p:spPr>
          <a:xfrm>
            <a:off x="457200" y="1600200"/>
            <a:ext cx="4572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ny different de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Depends on volume, water source, stream grad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306720" y="637236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armerscreen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5202000" y="637236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ntakescreensinc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Fish Protection Techn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Content Placeholder 4" descr="fishscrn004.jpg"/>
          <p:cNvPicPr/>
          <p:nvPr/>
        </p:nvPicPr>
        <p:blipFill>
          <a:blip r:embed="rId1"/>
          <a:srcRect l="0" t="10101" r="6090" b="22553"/>
          <a:stretch/>
        </p:blipFill>
        <p:spPr>
          <a:xfrm>
            <a:off x="2322360" y="3986280"/>
            <a:ext cx="2346480" cy="243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fishscrn003.jpg"/>
          <p:cNvPicPr/>
          <p:nvPr/>
        </p:nvPicPr>
        <p:blipFill>
          <a:blip r:embed="rId2"/>
          <a:stretch/>
        </p:blipFill>
        <p:spPr>
          <a:xfrm>
            <a:off x="5181480" y="2057400"/>
            <a:ext cx="345132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Content Placeholder 2"/>
          <p:cNvSpPr/>
          <p:nvPr/>
        </p:nvSpPr>
        <p:spPr>
          <a:xfrm>
            <a:off x="457200" y="1600200"/>
            <a:ext cx="4572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uidance documents and reg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Screen mesh s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Water velo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Other design fac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Water Rights for Fis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tream Flows” have been set in many King County rivers and strea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Most “Instream Resources Protection Programs” established in 1970’s – 1980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dified in WAC Title 17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iority dates just like out-of-stream righ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6d9f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d9f1"/>
                </a:solidFill>
                <a:latin typeface="Calibri"/>
              </a:rPr>
              <a:t>Do not affect senior r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dams and hydroelectric facilities have instream flow requirements (e.g., minimum flow, ramping rates, pulse flow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Types of Instream Flo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homish Basin (incl. Snoqualmie) 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AC 173-50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emi-monthly minimum flow schedule in major rivers. Multiple “control points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mplete closure to further appropriation in several larger tributaries (e.g., Griffin, Harris, Patterson, Raging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xed low-flow limit in several small streams (e.g., Langlois, Tate and many unnamed stream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Reduce Your (Water) Footpri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intain healthy soil – use less wat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mplement efficient irrigation system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event stock washing water from flowing directly to strea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intain vegetated buffers on all water cours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duce fertilizer and pesticide use. Use BMPs for applicat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reen and properly maintain all pumps &amp; divers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Photos\Skykomish Field Trip 2-23-10\P1010909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G:\Photos\WerkhovenFarmTour8-7-03\FreestallBarn.jpg"/>
          <p:cNvPicPr/>
          <p:nvPr/>
        </p:nvPicPr>
        <p:blipFill>
          <a:blip r:embed="rId3"/>
          <a:stretch/>
        </p:blipFill>
        <p:spPr>
          <a:xfrm>
            <a:off x="5867280" y="4419720"/>
            <a:ext cx="3048120" cy="228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40" name="Picture 4" descr="G:\Photos\06_Dec_SnoqPhotos_J.Kaje\Meadowbrook\Snoqualmie Dec 2006 013.jpg"/>
          <p:cNvPicPr/>
          <p:nvPr/>
        </p:nvPicPr>
        <p:blipFill>
          <a:blip r:embed="rId4"/>
          <a:stretch/>
        </p:blipFill>
        <p:spPr>
          <a:xfrm>
            <a:off x="304920" y="228600"/>
            <a:ext cx="3047760" cy="228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1" name="TextBox 8"/>
          <p:cNvSpPr/>
          <p:nvPr/>
        </p:nvSpPr>
        <p:spPr>
          <a:xfrm>
            <a:off x="2306880" y="2895480"/>
            <a:ext cx="4342680" cy="119124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mon life cy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ummer habitat util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withdrawal effects on habit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abitat quantity &amp; Wat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 water diversion effects on f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creening &amp; Technolo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tream Flow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asin closures, seasonal limit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ing impacts of your water 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Chinook Life Cyc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Content Placeholder 3" descr="1010_ChinookSalmonCycle.jpg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900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Freshwater Juvenile Rea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4267080" cy="23972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shwater re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n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2-1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12-2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bow tr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throat tr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pr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7" name="TextBox 5"/>
          <p:cNvSpPr/>
          <p:nvPr/>
        </p:nvSpPr>
        <p:spPr>
          <a:xfrm>
            <a:off x="5029200" y="16891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h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most likely to be found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small tributari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uring summer mon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hinook and Steelhead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more likely to be found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larger tributaries or the mainstem river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uring summer mon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Stream Flow Pattern in King Coun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53880" y="1862280"/>
            <a:ext cx="8512200" cy="4614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4495680" y="2286000"/>
            <a:ext cx="198144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724280" y="2362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rrigation Se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What’s a fish strea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m drainage ditch in Snoqualmie Vall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4" descr="\\dnrp.kingcounty.lcl\wlrksc\0Transfer\Everyone\ADAPpublicfolder\ProjectRecon\Photos\Bellamy\Bellamy_20081006&amp;07_DefishingPreProject_JOW\Bellamy_20081006_DefishPreProject (5).JPG"/>
          <p:cNvPicPr/>
          <p:nvPr/>
        </p:nvPicPr>
        <p:blipFill>
          <a:blip r:embed="rId1"/>
          <a:stretch/>
        </p:blipFill>
        <p:spPr>
          <a:xfrm>
            <a:off x="3276720" y="167652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Picture 5" descr="\\dnrp.kingcounty.lcl\wlrksc\0Transfer\Everyone\ADAPpublicfolder\ProjectRecon\Photos\Bellamy\Bellamy_20081011&amp;13_Day4&amp;5Project_JOW\Bellamy_20081011_Day4Project (55).JPG"/>
          <p:cNvPicPr/>
          <p:nvPr/>
        </p:nvPicPr>
        <p:blipFill>
          <a:blip r:embed="rId1"/>
          <a:stretch/>
        </p:blipFill>
        <p:spPr>
          <a:xfrm>
            <a:off x="419040" y="26676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8" name="Picture 2" descr="\\dnrp.kingcounty.lcl\wlrksc\0Transfer\Everyone\ADAPpublicfolder\ProjectRecon\Photos\Bellamy\Bellamy_20081006&amp;07_DefishingPreProject_JOW\Bellamy_20081007_DefishPreProject (26).JPG"/>
          <p:cNvPicPr/>
          <p:nvPr/>
        </p:nvPicPr>
        <p:blipFill>
          <a:blip r:embed="rId2"/>
          <a:stretch/>
        </p:blipFill>
        <p:spPr>
          <a:xfrm>
            <a:off x="5181480" y="380988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9" name="Picture 3" descr="\\dnrp.kingcounty.lcl\wlrksc\0Transfer\Everyone\ADAPpublicfolder\ProjectRecon\Photos\Bellamy\Bellamy_20081006&amp;07_DefishingPreProject_JOW\Bellamy_20081007_DefishPreProject (13).JPG"/>
          <p:cNvPicPr/>
          <p:nvPr/>
        </p:nvPicPr>
        <p:blipFill>
          <a:blip r:embed="rId3"/>
          <a:stretch/>
        </p:blipFill>
        <p:spPr>
          <a:xfrm>
            <a:off x="5181480" y="26676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Picture 4" descr="\\dnrp.kingcounty.lcl\wlrksc\0Transfer\Everyone\ADAPpublicfolder\ProjectRecon\Photos\Bellamy\Bellamy_20081006&amp;07_DefishingPreProject_JOW\Bellamy_20081007_DefishPreProject (16).JPG"/>
          <p:cNvPicPr/>
          <p:nvPr/>
        </p:nvPicPr>
        <p:blipFill>
          <a:blip r:embed="rId4"/>
          <a:stretch/>
        </p:blipFill>
        <p:spPr>
          <a:xfrm>
            <a:off x="419040" y="380988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TextBox 7"/>
          <p:cNvSpPr/>
          <p:nvPr/>
        </p:nvSpPr>
        <p:spPr>
          <a:xfrm>
            <a:off x="1607760" y="320040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000+ fish recovered from 2,000 feet of “ditch”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Habitat Quant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venile salmon are territor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flow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ewer territories, more 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ower food production (aquatic and terrestrial bug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hallower , warmer po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reme case 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sh get stranded in isolated, stagnant po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09880" y="3581280"/>
            <a:ext cx="1752840" cy="838440"/>
          </a:xfrm>
          <a:prstGeom prst="rect">
            <a:avLst/>
          </a:prstGeom>
          <a:solidFill>
            <a:srgbClr val="fcd5b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Water Qu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almon are cold-water fis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ed cool, clear, well-oxygenated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temperature can be letha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ight Arrow 4"/>
          <p:cNvSpPr/>
          <p:nvPr/>
        </p:nvSpPr>
        <p:spPr>
          <a:xfrm rot="16200000">
            <a:off x="3848040" y="392400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762120" y="3581280"/>
            <a:ext cx="1752480" cy="83844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ess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781680" y="3581280"/>
            <a:ext cx="1752840" cy="8384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own Arrow 12"/>
          <p:cNvSpPr/>
          <p:nvPr/>
        </p:nvSpPr>
        <p:spPr>
          <a:xfrm>
            <a:off x="6858000" y="38098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ight Arrow 10"/>
          <p:cNvSpPr/>
          <p:nvPr/>
        </p:nvSpPr>
        <p:spPr>
          <a:xfrm>
            <a:off x="2819520" y="3886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ight Arrow 15"/>
          <p:cNvSpPr/>
          <p:nvPr/>
        </p:nvSpPr>
        <p:spPr>
          <a:xfrm>
            <a:off x="5867280" y="38862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9:39:24Z</dcterms:created>
  <dc:creator>Janne Kaje</dc:creator>
  <dc:description/>
  <dc:language>en-US</dc:language>
  <cp:lastModifiedBy>wlrlaptop</cp:lastModifiedBy>
  <dcterms:modified xsi:type="dcterms:W3CDTF">2010-11-05T16:02:01Z</dcterms:modified>
  <cp:revision>55</cp:revision>
  <dc:subject/>
  <dc:title>Environmental Impacts of Water Withdrawal: Focus on Salmon Janne Kaje, KC Regional Partnerships Unit &amp; Snoqualmie Watershed Forum</dc:title>
</cp:coreProperties>
</file>