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3FE-F337-4EFA-8E2D-6C64A490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7F5-53D6-45AB-ACD4-7316F072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363C-4331-4CB5-8837-B46BD964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E3E-17A7-452F-8CC2-65E3582E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A92-028D-40ED-BDC2-44429DF37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255D-8971-49BA-87E1-15E4B380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A442-B50E-4959-A4D3-CBFAE31D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6D16-7BEB-4195-9179-0B00C98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8F3-74B3-44BD-A6CD-5389F30A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796F-B90A-4AAC-A52D-005120F1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B8B-C276-4A6A-B0E6-A7F5292D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932F-4B6E-489B-B1F3-D8768C7B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0BE4-8A8B-4872-BC40-642CAC4B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2435-2485-47E6-A857-C7566DAD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27EC-DFFE-4EB9-B7D8-6B5CAC27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0421-C35C-4FF4-B837-A70C0174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591-6C37-4473-BDFF-9C5461FE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83CF-CD36-4F5F-8A6C-7750AFA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DD85-AA8F-4290-BDDE-7C18F91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9A048-BED5-47E2-AAC6-E0CB902B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1D943-5145-425B-969E-C0609A5F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3AB49-A6D8-4870-BC7E-5F3DAF49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BE00-5463-450E-AEC1-502D5D2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37E9-26ED-491A-ACC7-8DC218C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D359-F270-425F-985A-D323EA04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3FD5-8CEF-4596-84B9-DA556634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42DA1-CECE-423B-875A-9310AA6A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152A-207C-49BD-91C4-B60064A9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F4A7-BDE7-4261-9C33-8D8114A6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DA15-E540-49B2-B59A-C6C3DECF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2FF0-2242-42E4-8151-0460747C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4B27-6104-4B7F-85C1-251BA649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D3C6-ECCE-47A1-879D-C3D3B2A3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A30F-3E55-4E35-843D-EA92FD4B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EB704-1289-4C15-9F34-13F134A9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2ADDA-E2D3-48BD-A3DE-B8207693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C34BA-157E-4891-BEA8-97CB7AE0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8890-C4F1-40DE-8DCB-228979A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5DE6D-8B2B-488B-AEEF-9801F650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A809D-604D-4955-AD27-ABD4981E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493D-2CB8-40A9-A1A5-A8636408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8DE4-D47E-44EB-8DE3-B5E76C84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3F9C2-3B9F-4B37-A6E8-885F80826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794-1B69-4185-8DFF-58119DEA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81E-DC31-455A-A382-C9D22ED09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6FD-F031-4136-A5C2-89C8BB50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EC1-45DC-46AE-97DF-EB4DFA4C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C11F-264E-42E1-9422-EB36A545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DC33-6748-4ACD-B655-19ED29397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03E7-7AD8-4E63-B03D-F50A0B229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/2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8932-740F-40D8-8E47-D1F3754B23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traight Connector 6"/>
          <p:cNvSpPr/>
          <p:nvPr/>
        </p:nvSpPr>
        <p:spPr>
          <a:xfrm>
            <a:off x="457200" y="304920"/>
            <a:ext cx="81532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7"/>
          <p:cNvSpPr/>
          <p:nvPr/>
        </p:nvSpPr>
        <p:spPr>
          <a:xfrm>
            <a:off x="457200" y="1447920"/>
            <a:ext cx="8153280" cy="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/2/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B49B-C377-4C60-8E06-99F806DEDD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Environmental Impacts of Water Withdrawal: Focus on Salmon</a:t>
            </a:r>
            <a:br>
              <a:rPr sz="4400"/>
            </a:br>
            <a:r>
              <a:rPr b="0" lang="en-US" sz="2000" spc="-1" strike="noStrike">
                <a:solidFill>
                  <a:srgbClr val="c6d9f1"/>
                </a:solidFill>
                <a:latin typeface="Calibri"/>
              </a:rPr>
              <a:t>Janne Kaje, KC Regional Partnerships Unit &amp; Snoqualmie Watershed Foru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Straight Connector 5"/>
          <p:cNvSpPr/>
          <p:nvPr/>
        </p:nvSpPr>
        <p:spPr>
          <a:xfrm>
            <a:off x="419040" y="114300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19040" y="3048120"/>
            <a:ext cx="8305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6" descr="PumpScreen1_self_cleaning.jpg"/>
          <p:cNvPicPr/>
          <p:nvPr/>
        </p:nvPicPr>
        <p:blipFill>
          <a:blip r:embed="rId1"/>
          <a:stretch/>
        </p:blipFill>
        <p:spPr>
          <a:xfrm>
            <a:off x="812880" y="3429000"/>
            <a:ext cx="223524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0" name="Picture 8" descr="ag_land.jpg"/>
          <p:cNvPicPr/>
          <p:nvPr/>
        </p:nvPicPr>
        <p:blipFill>
          <a:blip r:embed="rId2"/>
          <a:stretch/>
        </p:blipFill>
        <p:spPr>
          <a:xfrm>
            <a:off x="3352680" y="3429000"/>
            <a:ext cx="508644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Return Flow Qu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rrigation return water impacts qualit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Usually WARMER in summ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uspended sediment inpu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6d9f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6d9f1"/>
                </a:solidFill>
                <a:latin typeface="Calibri"/>
              </a:rPr>
              <a:t>Clog gills and bury gravel substrat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Nutrient, chemical runoff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57200" y="4038480"/>
            <a:ext cx="1752480" cy="838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7086600" y="4038480"/>
            <a:ext cx="1752480" cy="8384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Down Arrow 7"/>
          <p:cNvSpPr/>
          <p:nvPr/>
        </p:nvSpPr>
        <p:spPr>
          <a:xfrm>
            <a:off x="7162920" y="426708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ight Arrow 10"/>
          <p:cNvSpPr/>
          <p:nvPr/>
        </p:nvSpPr>
        <p:spPr>
          <a:xfrm rot="16200000">
            <a:off x="343080" y="430488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ight Arrow 11"/>
          <p:cNvSpPr/>
          <p:nvPr/>
        </p:nvSpPr>
        <p:spPr>
          <a:xfrm>
            <a:off x="2438280" y="43434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ight Arrow 12"/>
          <p:cNvSpPr/>
          <p:nvPr/>
        </p:nvSpPr>
        <p:spPr>
          <a:xfrm>
            <a:off x="6324480" y="426708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5"/>
          <p:cNvSpPr/>
          <p:nvPr/>
        </p:nvSpPr>
        <p:spPr>
          <a:xfrm>
            <a:off x="4197240" y="617220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lgae blo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16" descr="ShadowLake_Sept07_algaebloom.JPG"/>
          <p:cNvPicPr/>
          <p:nvPr/>
        </p:nvPicPr>
        <p:blipFill>
          <a:blip r:embed="rId1"/>
          <a:stretch/>
        </p:blipFill>
        <p:spPr>
          <a:xfrm>
            <a:off x="3657600" y="3886200"/>
            <a:ext cx="2286000" cy="220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Pumps &amp; Diver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 can get diverted into fields and stuck on intake scree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sh protection is required by state law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RCW 77.57.010.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sh guards required on diversion devices — Penalties, remedies for failur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Calibri"/>
              </a:rPr>
              <a:t>RCW 77.57.070. 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iversion of water — Screen, bypass required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 waterways with Endangered Species Act listed fish, could be guilty of “take”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7200" y="64771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http://wdfw.wa.gov/conservation/habitat/planning/screen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ish Protection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Content Placeholder 3" descr="Water%20Drive%20Diagram_intakescreensinc.jpg"/>
          <p:cNvPicPr/>
          <p:nvPr/>
        </p:nvPicPr>
        <p:blipFill>
          <a:blip r:embed="rId1"/>
          <a:stretch/>
        </p:blipFill>
        <p:spPr>
          <a:xfrm>
            <a:off x="5257800" y="3505320"/>
            <a:ext cx="2847960" cy="3095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FarmScreen_shot2.jpg"/>
          <p:cNvPicPr/>
          <p:nvPr/>
        </p:nvPicPr>
        <p:blipFill>
          <a:blip r:embed="rId2"/>
          <a:stretch/>
        </p:blipFill>
        <p:spPr>
          <a:xfrm>
            <a:off x="304920" y="3524400"/>
            <a:ext cx="4647960" cy="3105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Pump-Rite-T500_Passive.jpg"/>
          <p:cNvPicPr/>
          <p:nvPr/>
        </p:nvPicPr>
        <p:blipFill>
          <a:blip r:embed="rId3"/>
          <a:stretch/>
        </p:blipFill>
        <p:spPr>
          <a:xfrm>
            <a:off x="5257800" y="1600200"/>
            <a:ext cx="2819520" cy="1833480"/>
          </a:xfrm>
          <a:prstGeom prst="rect">
            <a:avLst/>
          </a:prstGeom>
          <a:ln w="0">
            <a:noFill/>
          </a:ln>
        </p:spPr>
      </p:pic>
      <p:pic>
        <p:nvPicPr>
          <p:cNvPr id="220" name="Content Placeholder 3" descr="Water%20Drive%20Diagram_intakescreensinc.jpg"/>
          <p:cNvPicPr/>
          <p:nvPr/>
        </p:nvPicPr>
        <p:blipFill>
          <a:blip r:embed="rId4"/>
          <a:stretch/>
        </p:blipFill>
        <p:spPr>
          <a:xfrm>
            <a:off x="5257800" y="3486240"/>
            <a:ext cx="28494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1" name="Picture 8" descr="FarmScreen_shot2.jpg"/>
          <p:cNvPicPr/>
          <p:nvPr/>
        </p:nvPicPr>
        <p:blipFill>
          <a:blip r:embed="rId5"/>
          <a:stretch/>
        </p:blipFill>
        <p:spPr>
          <a:xfrm>
            <a:off x="304920" y="3505320"/>
            <a:ext cx="4647960" cy="3105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Picture 9" descr="Pump-Rite-T500_Passive.jpg"/>
          <p:cNvPicPr/>
          <p:nvPr/>
        </p:nvPicPr>
        <p:blipFill>
          <a:blip r:embed="rId6"/>
          <a:stretch/>
        </p:blipFill>
        <p:spPr>
          <a:xfrm>
            <a:off x="5257800" y="1581120"/>
            <a:ext cx="2819520" cy="1833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23" name="Content Placeholder 2"/>
          <p:cNvSpPr/>
          <p:nvPr/>
        </p:nvSpPr>
        <p:spPr>
          <a:xfrm>
            <a:off x="457200" y="1600200"/>
            <a:ext cx="4572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ny different dev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Depends on volume, water source, stream gradi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306720" y="6372360"/>
            <a:ext cx="20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armerscreen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5202000" y="637236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ntakescreensinc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ish Protection Technolo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Content Placeholder 4" descr="fishscrn004.jpg"/>
          <p:cNvPicPr/>
          <p:nvPr/>
        </p:nvPicPr>
        <p:blipFill>
          <a:blip r:embed="rId1"/>
          <a:srcRect l="0" t="10101" r="6090" b="22553"/>
          <a:stretch/>
        </p:blipFill>
        <p:spPr>
          <a:xfrm>
            <a:off x="2322360" y="3986280"/>
            <a:ext cx="2346480" cy="2438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fishscrn003.jpg"/>
          <p:cNvPicPr/>
          <p:nvPr/>
        </p:nvPicPr>
        <p:blipFill>
          <a:blip r:embed="rId2"/>
          <a:stretch/>
        </p:blipFill>
        <p:spPr>
          <a:xfrm>
            <a:off x="5181480" y="2057400"/>
            <a:ext cx="345132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457200" y="1600200"/>
            <a:ext cx="4572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uidance documents and reg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Screen mesh s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Water veloc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alibri"/>
              </a:rPr>
              <a:t>Other design facto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ater Rights for Fis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eam Flows” have been set in many King County rivers and strea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Most “Instream Resources Protection Programs” established in 1970’s – 1980’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dified in WAC Title 17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riority dates just like out-of-stream right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6d9f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d9f1"/>
                </a:solidFill>
                <a:latin typeface="Calibri"/>
              </a:rPr>
              <a:t>Do not affect senior righ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y dams and hydroelectric facilities have instream flow requirements (e.g., minimum flow, ramping rates, pulse flow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Types of Instream Flow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nohomish Basin (incl. Snoqualmie) exampl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WAC 173-507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emi-monthly minimum flow schedule in major rivers. Multiple “control points”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Complete closure to further appropriation in several larger tributaries (e.g., Griffin, Harris, Patterson, Raging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xed low-flow limit in several small streams (e.g., Langlois, Tate and many unnamed streams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Reduce Your (Water) Footprint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intain healthy soil – use less wat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Implement efficient irrigation system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Prevent stock washing water from flowing directly to strea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intain vegetated buffers on all water cours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Reduce fertilizer and pesticide use. Use BMPs for applicatio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creen and properly maintain all pumps &amp; diversion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Photos\Skykomish Field Trip 2-23-10\P1010909.JPG"/>
          <p:cNvPicPr/>
          <p:nvPr/>
        </p:nvPicPr>
        <p:blipFill>
          <a:blip r:embed="rId1">
            <a:grayscl/>
          </a:blip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Calibri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G:\Photos\WerkhovenFarmTour8-7-03\FreestallBarn.jpg"/>
          <p:cNvPicPr/>
          <p:nvPr/>
        </p:nvPicPr>
        <p:blipFill>
          <a:blip r:embed="rId3"/>
          <a:stretch/>
        </p:blipFill>
        <p:spPr>
          <a:xfrm>
            <a:off x="5867280" y="4419720"/>
            <a:ext cx="3048120" cy="228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240" name="Picture 4" descr="G:\Photos\06_Dec_SnoqPhotos_J.Kaje\Meadowbrook\Snoqualmie Dec 2006 013.jpg"/>
          <p:cNvPicPr/>
          <p:nvPr/>
        </p:nvPicPr>
        <p:blipFill>
          <a:blip r:embed="rId4"/>
          <a:stretch/>
        </p:blipFill>
        <p:spPr>
          <a:xfrm>
            <a:off x="304920" y="228600"/>
            <a:ext cx="3047760" cy="2286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41" name="TextBox 8"/>
          <p:cNvSpPr/>
          <p:nvPr/>
        </p:nvSpPr>
        <p:spPr>
          <a:xfrm>
            <a:off x="2306880" y="2895480"/>
            <a:ext cx="4342680" cy="119124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Questions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almon life cy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ummer habitat util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 withdrawal effects on habit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Habitat quantity &amp; Water qual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rface water diversion effects on fis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creening &amp; Technologi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nstream Flow”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asin closures, seasonal limit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ducing impacts of your water u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Chinook Life Cyc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4" name="Content Placeholder 3" descr="1010_ChinookSalmonCycle.jpg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900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Freshwater Juvenile Rear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4267080" cy="2397240"/>
        </p:xfrm>
        <a:graphic>
          <a:graphicData uri="http://schemas.openxmlformats.org/drawingml/2006/table">
            <a:tbl>
              <a:tblPr/>
              <a:tblGrid>
                <a:gridCol w="1905120"/>
                <a:gridCol w="236196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shwater rea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2-16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2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h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 12-24 mo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inbow tr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tthroat tr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pr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7" name="TextBox 5"/>
          <p:cNvSpPr/>
          <p:nvPr/>
        </p:nvSpPr>
        <p:spPr>
          <a:xfrm>
            <a:off x="5029200" y="168912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h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most likely to be found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small tributaries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during summer mon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hinook and Steelhead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e more likely to be found i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larger tributaries or the mainstem river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uring summer month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Stream Flow Pattern in King Coun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353880" y="1862280"/>
            <a:ext cx="8512200" cy="46148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4495680" y="2286000"/>
            <a:ext cx="1981440" cy="3581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4724280" y="236232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rrigation Se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hat’s a fish strea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arm drainage ditch in Snoqualmie Valle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4" descr="\\dnrp.kingcounty.lcl\wlrksc\0Transfer\Everyone\ADAPpublicfolder\ProjectRecon\Photos\Bellamy\Bellamy_20081006&amp;07_DefishingPreProject_JOW\Bellamy_20081006_DefishPreProject (5).JPG"/>
          <p:cNvPicPr/>
          <p:nvPr/>
        </p:nvPicPr>
        <p:blipFill>
          <a:blip r:embed="rId1"/>
          <a:stretch/>
        </p:blipFill>
        <p:spPr>
          <a:xfrm>
            <a:off x="3276720" y="1676520"/>
            <a:ext cx="548640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0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Picture 5" descr="\\dnrp.kingcounty.lcl\wlrksc\0Transfer\Everyone\ADAPpublicfolder\ProjectRecon\Photos\Bellamy\Bellamy_20081011&amp;13_Day4&amp;5Project_JOW\Bellamy_20081011_Day4Project (55).JPG"/>
          <p:cNvPicPr/>
          <p:nvPr/>
        </p:nvPicPr>
        <p:blipFill>
          <a:blip r:embed="rId1"/>
          <a:stretch/>
        </p:blipFill>
        <p:spPr>
          <a:xfrm>
            <a:off x="419040" y="26676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8" name="Picture 2" descr="\\dnrp.kingcounty.lcl\wlrksc\0Transfer\Everyone\ADAPpublicfolder\ProjectRecon\Photos\Bellamy\Bellamy_20081006&amp;07_DefishingPreProject_JOW\Bellamy_20081007_DefishPreProject (26).JPG"/>
          <p:cNvPicPr/>
          <p:nvPr/>
        </p:nvPicPr>
        <p:blipFill>
          <a:blip r:embed="rId2"/>
          <a:stretch/>
        </p:blipFill>
        <p:spPr>
          <a:xfrm>
            <a:off x="5181480" y="380988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9" name="Picture 3" descr="\\dnrp.kingcounty.lcl\wlrksc\0Transfer\Everyone\ADAPpublicfolder\ProjectRecon\Photos\Bellamy\Bellamy_20081006&amp;07_DefishingPreProject_JOW\Bellamy_20081007_DefishPreProject (13).JPG"/>
          <p:cNvPicPr/>
          <p:nvPr/>
        </p:nvPicPr>
        <p:blipFill>
          <a:blip r:embed="rId3"/>
          <a:stretch/>
        </p:blipFill>
        <p:spPr>
          <a:xfrm>
            <a:off x="5181480" y="26676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90" name="Picture 4" descr="\\dnrp.kingcounty.lcl\wlrksc\0Transfer\Everyone\ADAPpublicfolder\ProjectRecon\Photos\Bellamy\Bellamy_20081006&amp;07_DefishingPreProject_JOW\Bellamy_20081007_DefishPreProject (16).JPG"/>
          <p:cNvPicPr/>
          <p:nvPr/>
        </p:nvPicPr>
        <p:blipFill>
          <a:blip r:embed="rId4"/>
          <a:stretch/>
        </p:blipFill>
        <p:spPr>
          <a:xfrm>
            <a:off x="419040" y="3809880"/>
            <a:ext cx="3657600" cy="2743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91" name="TextBox 7"/>
          <p:cNvSpPr/>
          <p:nvPr/>
        </p:nvSpPr>
        <p:spPr>
          <a:xfrm>
            <a:off x="1607760" y="3200400"/>
            <a:ext cx="62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,000+ fish recovered from 2,000 feet of “ditch”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Habitat Quant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Juvenile salmon are territor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wer flow =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ewer territories, more competi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Lower food production (aquatic and terrestrial bug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hallower , warmer p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treme case =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Fish get stranded in isolated, stagnant poo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3809880" y="3581280"/>
            <a:ext cx="1752840" cy="838440"/>
          </a:xfrm>
          <a:prstGeom prst="rect">
            <a:avLst/>
          </a:prstGeom>
          <a:solidFill>
            <a:srgbClr val="fcd5b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Calibri"/>
              </a:rPr>
              <a:t>Water Qualit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almon are cold-water fish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Need cool, clear, well-oxygenated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igh temperature can be leth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ight Arrow 4"/>
          <p:cNvSpPr/>
          <p:nvPr/>
        </p:nvSpPr>
        <p:spPr>
          <a:xfrm rot="16200000">
            <a:off x="3848040" y="39240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762120" y="3581280"/>
            <a:ext cx="1752480" cy="83844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ess 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6781680" y="3581280"/>
            <a:ext cx="1752840" cy="838440"/>
          </a:xfrm>
          <a:prstGeom prst="rect">
            <a:avLst/>
          </a:prstGeom>
          <a:solidFill>
            <a:srgbClr val="7793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Down Arrow 12"/>
          <p:cNvSpPr/>
          <p:nvPr/>
        </p:nvSpPr>
        <p:spPr>
          <a:xfrm>
            <a:off x="6858000" y="38098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622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ight Arrow 10"/>
          <p:cNvSpPr/>
          <p:nvPr/>
        </p:nvSpPr>
        <p:spPr>
          <a:xfrm>
            <a:off x="2819520" y="38862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ight Arrow 15"/>
          <p:cNvSpPr/>
          <p:nvPr/>
        </p:nvSpPr>
        <p:spPr>
          <a:xfrm>
            <a:off x="5867280" y="3886200"/>
            <a:ext cx="609840" cy="30492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9:39:24Z</dcterms:created>
  <dc:creator>Janne Kaje</dc:creator>
  <dc:description/>
  <dc:language>en-US</dc:language>
  <cp:lastModifiedBy>wlrlaptop</cp:lastModifiedBy>
  <dcterms:modified xsi:type="dcterms:W3CDTF">2010-11-05T16:02:01Z</dcterms:modified>
  <cp:revision>55</cp:revision>
  <dc:subject/>
  <dc:title>Environmental Impacts of Water Withdrawal: Focus on Salmon Janne Kaje, KC Regional Partnerships Unit &amp; Snoqualmie Watershed Forum</dc:title>
</cp:coreProperties>
</file>