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F2C340-767B-42C6-91DC-69A7529D8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 basins, number of POI’s with biological data – pairing of hydr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biological sample points; number sample points with &gt;500 total organisms (I.e., points we can use with most confid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weak relationships we found; lots of scatter; r= -0.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relationship between high pulse county and Plecoptera taxa rich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#’s of high pulses are indicative of more flashy, stormflow dominated urban flow reg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#’s of high pulses (esp. in relation to ‘natural’ regime) represents an increase in frequency of disturbance…..decrease in species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ogic metrics most frequently correlated with biology: HP, LP counts, rise/fall counts, rise/fall rates; HP, LP duration; timing of HP, LP events (start and end dates)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nd poor biological groups are clearly distinguished; some overlap between good and fair biologica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distinguish groups best are:  HP duration; LP start date; LP duration (LP, HP durations are much shorter under urbanization as flashiness increases; LP, HP periods also start earlier and last longer under urbanization (I.e., periods of time when flows are typically more stable under natural conditions experience multiple high and low pulses under urbanization); biological groupings correspond to these dif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; get different factors distinguishing groups if using scenario vs. ratios and annual vs. seasonal – more work to do here to flesh out key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We Trying to Accompli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based; ecosystem based (vs. single-species or single flow ‘problem’ foc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short and longer-term measures of effects – immediate warning signals; long term bench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managers with decision 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minate/inform management options, policy/regulations, to CIP to rest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vant to sal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interacting stressors i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rb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s – hard to tease apart effects of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tial variability in stressors within and across watersh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ck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data/information – no long term biological studies; few long-term hydrological records; very little instream habita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data sets that are spatially or temporally limited; were designed for limited, specific purpose; very little consistent monitoring or region-wide data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65320" y="68436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33480" y="4413240"/>
            <a:ext cx="51307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 science based conceptual model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 potential biological and physical (mostly hydrology) metrics that describe condition; hopefully related to mechanism but not necessar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empirical relationships to characterize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levels of acceptable biological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to management 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 is specu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to separate contributions of confounded effects; if conditions change, don’t know if discovered  relationships will 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65320" y="68436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33480" y="4413240"/>
            <a:ext cx="51307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nd watersheds with both data typ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cross an Urbanization gradient (hope also hydro and bio gradien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air biology and hydrolo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reate subbasins with Distinct hydrology but tha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inimize the number of BIBI sites within subbasin (usually have one, but in some cases, m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ecause of limited data started off in two watersheds with hydrologic models and BIBI, instream habitat, and land cover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Later expanded gradi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65320" y="68436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33480" y="4413240"/>
            <a:ext cx="51307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lvl="2" marL="914400" indent="0">
              <a:spcBef>
                <a:spcPts val="63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Rain on a watersh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63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Water flows over land use typ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63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Calibrated to local gauge d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65320" y="68436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33480" y="4413240"/>
            <a:ext cx="51307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acroinvertebrate da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ccff"/>
                </a:solidFill>
                <a:latin typeface="Times New Roman"/>
              </a:rPr>
              <a:t>collected for Benthic Index of Biotic Integr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Sampling designs and methods developed to assess combined effects of urbanization, not specific effects of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AD9-6D7F-4A16-94A1-93B79123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ADE8-5C5E-4EFC-8A58-CD42D2C7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F29-B6D5-4567-8FAF-9FFFE4B6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79B-E488-424D-A554-F24C5193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A26-2C72-410E-B7BF-B4063EAB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95B-18C5-455B-B9D1-8E387740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95C-0A0A-4E76-AA81-D9612EB0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4B5-22FD-4F33-A6EE-19C6C89A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381-D5E4-4AC9-B1C9-5DECDDB9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D4D6-E39C-4D35-B9C0-8FA4FC04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F13-CC7A-418B-8442-D6076218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02C-34B6-4E97-B1EB-67ABCA59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B92C-8D82-4B1B-8A2F-F1268A6CA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rmative Flow Stud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Streams Biology-Hydrology Analy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03E-1CBA-4453-B6E0-04ABAEEFA7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ing Biological Data S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aquah (8/35;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ar/Evans (19/63;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ear (5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amp (7/12;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sen (2/6;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ller (1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rnton (5/15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ple size = 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993-6EAB-4049-BEA7-4974661BEA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839080" cy="5346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66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ample Hydrogra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F4F-59B2-4911-9F0C-CC2224CDDF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28600" y="1905120"/>
          <a:ext cx="45720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4572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648320" y="1905120"/>
          <a:ext cx="4267080" cy="4117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267080" cy="41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838080" y="13716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on-urbanized Waters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1371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rbanized Waters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57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rested Rise Count vs. Current Rise C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4CC-C32A-4CD2-9B92-684DDF6523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670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883560" cy="551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6504-3A3E-42DB-A751-013B812F75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8670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83560" cy="551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E1B-2C30-4C5F-BC4F-71A7292281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BI Score vs. Q2:Q10 in sites with similar local land cover (within 100m of BIBI sit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52480" y="2287440"/>
          <a:ext cx="5713560" cy="45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7440"/>
                    <a:ext cx="57135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749-1F1D-4BBB-BAAB-D4D809F8A9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287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143000" y="685800"/>
            <a:ext cx="6923160" cy="5527800"/>
            <a:chOff x="1143000" y="685800"/>
            <a:chExt cx="6923160" cy="5527800"/>
          </a:xfrm>
        </p:grpSpPr>
        <p:sp>
          <p:nvSpPr>
            <p:cNvPr id="140" name=""/>
            <p:cNvSpPr/>
            <p:nvPr/>
          </p:nvSpPr>
          <p:spPr>
            <a:xfrm>
              <a:off x="1143000" y="685800"/>
              <a:ext cx="6923160" cy="5527800"/>
            </a:xfrm>
            <a:custGeom>
              <a:avLst/>
              <a:gdLst/>
              <a:ahLst/>
              <a:rect l="l" t="t" r="r" b="b"/>
              <a:pathLst>
                <a:path w="4361" h="3482">
                  <a:moveTo>
                    <a:pt x="4361" y="3482"/>
                  </a:moveTo>
                  <a:lnTo>
                    <a:pt x="0" y="0"/>
                  </a:lnTo>
                  <a:lnTo>
                    <a:pt x="0" y="3482"/>
                  </a:lnTo>
                  <a:lnTo>
                    <a:pt x="4361" y="34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685800"/>
              <a:ext cx="6923160" cy="5527800"/>
            </a:xfrm>
            <a:custGeom>
              <a:avLst/>
              <a:gdLst/>
              <a:ahLst/>
              <a:rect l="l" t="t" r="r" b="b"/>
              <a:pathLst>
                <a:path w="4361" h="3482">
                  <a:moveTo>
                    <a:pt x="0" y="0"/>
                  </a:moveTo>
                  <a:lnTo>
                    <a:pt x="4361" y="0"/>
                  </a:lnTo>
                  <a:lnTo>
                    <a:pt x="4361" y="3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43000" y="685800"/>
              <a:ext cx="6923160" cy="5527800"/>
            </a:xfrm>
            <a:custGeom>
              <a:avLst/>
              <a:gdLst/>
              <a:ahLst/>
              <a:rect l="l" t="t" r="r" b="b"/>
              <a:pathLst>
                <a:path w="4361" h="3482">
                  <a:moveTo>
                    <a:pt x="4361" y="3482"/>
                  </a:moveTo>
                  <a:lnTo>
                    <a:pt x="0" y="0"/>
                  </a:lnTo>
                  <a:lnTo>
                    <a:pt x="0" y="3482"/>
                  </a:lnTo>
                  <a:lnTo>
                    <a:pt x="4361" y="34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43000" y="685800"/>
              <a:ext cx="6923160" cy="5527800"/>
            </a:xfrm>
            <a:custGeom>
              <a:avLst/>
              <a:gdLst/>
              <a:ahLst/>
              <a:rect l="l" t="t" r="r" b="b"/>
              <a:pathLst>
                <a:path w="4361" h="3482">
                  <a:moveTo>
                    <a:pt x="0" y="0"/>
                  </a:moveTo>
                  <a:lnTo>
                    <a:pt x="4361" y="0"/>
                  </a:lnTo>
                  <a:lnTo>
                    <a:pt x="4361" y="3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16880" y="873000"/>
              <a:ext cx="4348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Canonical Discriminant Functions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58800" y="1481040"/>
              <a:ext cx="462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nnual Ratio Hydrology Metrics normalized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69640" y="585324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unction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49680" y="5362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57480" y="5362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65640" y="5362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45360" y="53625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7560" y="53625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75360" y="53625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83160" y="53625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89520" y="53625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122480" y="34678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unction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53720" y="184140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53720" y="23893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53720" y="29527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53720" y="35146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96840" y="407844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1.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96840" y="464040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2.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96840" y="51166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3.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62800" y="399096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0" y="0"/>
                  </a:moveTo>
                  <a:lnTo>
                    <a:pt x="55" y="54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62800" y="399096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0" y="0"/>
                  </a:moveTo>
                  <a:lnTo>
                    <a:pt x="55" y="0"/>
                  </a:lnTo>
                  <a:lnTo>
                    <a:pt x="55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64320" y="4394160"/>
              <a:ext cx="144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19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49920" y="4379760"/>
              <a:ext cx="14400" cy="73080"/>
            </a:xfrm>
            <a:custGeom>
              <a:avLst/>
              <a:gdLst/>
              <a:ahLst/>
              <a:rect l="l" t="t" r="r" b="b"/>
              <a:pathLst>
                <a:path w="9" h="46">
                  <a:moveTo>
                    <a:pt x="9" y="46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49920" y="4379760"/>
              <a:ext cx="14400" cy="8748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9" y="46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35880" y="4365720"/>
              <a:ext cx="14040" cy="10152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35880" y="4365720"/>
              <a:ext cx="1404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64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05640" y="436572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19" y="73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05640" y="436572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19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76840" y="436572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76840" y="436572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62800" y="4365720"/>
              <a:ext cx="1404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73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62800" y="4379760"/>
              <a:ext cx="14040" cy="10188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48400" y="4379760"/>
              <a:ext cx="14400" cy="8748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9" y="55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5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48400" y="4394160"/>
              <a:ext cx="14400" cy="73080"/>
            </a:xfrm>
            <a:custGeom>
              <a:avLst/>
              <a:gdLst/>
              <a:ahLst/>
              <a:rect l="l" t="t" r="r" b="b"/>
              <a:pathLst>
                <a:path w="9" h="46">
                  <a:moveTo>
                    <a:pt x="9" y="46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48400" y="4394160"/>
              <a:ext cx="180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0"/>
                  </a:moveTo>
                  <a:lnTo>
                    <a:pt x="0" y="19"/>
                  </a:lnTo>
                  <a:lnTo>
                    <a:pt x="0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62800" y="475632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5" y="54"/>
                  </a:moveTo>
                  <a:lnTo>
                    <a:pt x="0" y="54"/>
                  </a:lnTo>
                  <a:lnTo>
                    <a:pt x="27" y="0"/>
                  </a:lnTo>
                  <a:lnTo>
                    <a:pt x="55" y="5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62800" y="5159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62800" y="5159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0"/>
                  </a:moveTo>
                  <a:lnTo>
                    <a:pt x="55" y="0"/>
                  </a:lnTo>
                  <a:lnTo>
                    <a:pt x="55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508440" y="351468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BI gro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69080" y="3948120"/>
              <a:ext cx="1207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roup Centroid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5280" y="4336920"/>
              <a:ext cx="64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5 - max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91400" y="472752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 - 35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78440" y="51166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in - 2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61200" y="5332320"/>
              <a:ext cx="1440" cy="3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67560" y="5332320"/>
              <a:ext cx="1440" cy="3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89400" y="5332320"/>
              <a:ext cx="1800" cy="3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97560" y="5332320"/>
              <a:ext cx="1440" cy="3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05360" y="5332320"/>
              <a:ext cx="1440" cy="3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11360" y="5332320"/>
              <a:ext cx="1800" cy="3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33560" y="5332320"/>
              <a:ext cx="1800" cy="3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41720" y="5332320"/>
              <a:ext cx="1440" cy="3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98520" y="1955880"/>
              <a:ext cx="43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98520" y="2519280"/>
              <a:ext cx="43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98520" y="3081240"/>
              <a:ext cx="43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98520" y="3645000"/>
              <a:ext cx="43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98520" y="4192560"/>
              <a:ext cx="43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98520" y="4756320"/>
              <a:ext cx="43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98520" y="5318280"/>
              <a:ext cx="43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41720" y="1955880"/>
              <a:ext cx="4119480" cy="3362400"/>
            </a:xfrm>
            <a:custGeom>
              <a:avLst/>
              <a:gdLst/>
              <a:ahLst/>
              <a:rect l="l" t="t" r="r" b="b"/>
              <a:pathLst>
                <a:path w="2595" h="2118">
                  <a:moveTo>
                    <a:pt x="2595" y="2118"/>
                  </a:moveTo>
                  <a:lnTo>
                    <a:pt x="0" y="0"/>
                  </a:lnTo>
                  <a:lnTo>
                    <a:pt x="0" y="2118"/>
                  </a:lnTo>
                  <a:lnTo>
                    <a:pt x="2595" y="2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41720" y="1955880"/>
              <a:ext cx="4119480" cy="3362400"/>
            </a:xfrm>
            <a:custGeom>
              <a:avLst/>
              <a:gdLst/>
              <a:ahLst/>
              <a:rect l="l" t="t" r="r" b="b"/>
              <a:pathLst>
                <a:path w="2595" h="2118">
                  <a:moveTo>
                    <a:pt x="0" y="0"/>
                  </a:moveTo>
                  <a:lnTo>
                    <a:pt x="2595" y="0"/>
                  </a:lnTo>
                  <a:lnTo>
                    <a:pt x="2595" y="2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41720" y="1955880"/>
              <a:ext cx="4119480" cy="33624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07200" y="296532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0"/>
                  </a:moveTo>
                  <a:lnTo>
                    <a:pt x="54" y="55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07200" y="296532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0"/>
                  </a:moveTo>
                  <a:lnTo>
                    <a:pt x="54" y="0"/>
                  </a:lnTo>
                  <a:lnTo>
                    <a:pt x="54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50040" y="4033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50040" y="4033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0"/>
                  </a:moveTo>
                  <a:lnTo>
                    <a:pt x="55" y="0"/>
                  </a:lnTo>
                  <a:lnTo>
                    <a:pt x="55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97320" y="363060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0" y="0"/>
                  </a:moveTo>
                  <a:lnTo>
                    <a:pt x="55" y="54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97320" y="363060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0" y="0"/>
                  </a:moveTo>
                  <a:lnTo>
                    <a:pt x="55" y="0"/>
                  </a:lnTo>
                  <a:lnTo>
                    <a:pt x="55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22760" y="2851200"/>
              <a:ext cx="180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18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06920" y="2836800"/>
              <a:ext cx="15840" cy="7164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10" y="45"/>
                  </a:moveTo>
                  <a:lnTo>
                    <a:pt x="0" y="0"/>
                  </a:lnTo>
                  <a:lnTo>
                    <a:pt x="10" y="9"/>
                  </a:lnTo>
                  <a:lnTo>
                    <a:pt x="10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06920" y="2836800"/>
              <a:ext cx="15840" cy="8568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45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0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92880" y="2820960"/>
              <a:ext cx="14040" cy="10152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9" y="10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92880" y="2820960"/>
              <a:ext cx="1404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64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64080" y="282096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64080" y="282096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35640" y="282096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35640" y="282096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21240" y="282096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73"/>
                  </a:moveTo>
                  <a:lnTo>
                    <a:pt x="0" y="10"/>
                  </a:lnTo>
                  <a:lnTo>
                    <a:pt x="9" y="0"/>
                  </a:lnTo>
                  <a:lnTo>
                    <a:pt x="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21240" y="2836800"/>
              <a:ext cx="14400" cy="100080"/>
            </a:xfrm>
            <a:custGeom>
              <a:avLst/>
              <a:gdLst/>
              <a:ahLst/>
              <a:rect l="l" t="t" r="r" b="b"/>
              <a:pathLst>
                <a:path w="9" h="63">
                  <a:moveTo>
                    <a:pt x="9" y="63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7200" y="2836800"/>
              <a:ext cx="1404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54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07200" y="2851200"/>
              <a:ext cx="1404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07200" y="285120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3080" y="2460600"/>
              <a:ext cx="144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18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37240" y="2446200"/>
              <a:ext cx="15840" cy="7308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46"/>
                  </a:moveTo>
                  <a:lnTo>
                    <a:pt x="0" y="0"/>
                  </a:lnTo>
                  <a:lnTo>
                    <a:pt x="10" y="9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37240" y="2446200"/>
              <a:ext cx="15840" cy="87480"/>
            </a:xfrm>
            <a:custGeom>
              <a:avLst/>
              <a:gdLst/>
              <a:ahLst/>
              <a:rect l="l" t="t" r="r" b="b"/>
              <a:pathLst>
                <a:path w="10" h="55">
                  <a:moveTo>
                    <a:pt x="10" y="46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22840" y="2432160"/>
              <a:ext cx="14400" cy="10152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22840" y="243216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64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94400" y="243216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94400" y="243216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65600" y="243216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65600" y="243216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51560" y="2432160"/>
              <a:ext cx="1404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73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51560" y="2446200"/>
              <a:ext cx="14040" cy="10188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37160" y="2446200"/>
              <a:ext cx="14400" cy="8748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9" y="55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5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37160" y="2460600"/>
              <a:ext cx="14400" cy="73080"/>
            </a:xfrm>
            <a:custGeom>
              <a:avLst/>
              <a:gdLst/>
              <a:ahLst/>
              <a:rect l="l" t="t" r="r" b="b"/>
              <a:pathLst>
                <a:path w="9" h="46">
                  <a:moveTo>
                    <a:pt x="9" y="46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37160" y="2460600"/>
              <a:ext cx="180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37160" y="2244600"/>
              <a:ext cx="180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18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22760" y="223056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22760" y="2230560"/>
              <a:ext cx="1440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45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06920" y="2216160"/>
              <a:ext cx="15840" cy="100080"/>
            </a:xfrm>
            <a:custGeom>
              <a:avLst/>
              <a:gdLst/>
              <a:ahLst/>
              <a:rect l="l" t="t" r="r" b="b"/>
              <a:pathLst>
                <a:path w="10" h="63">
                  <a:moveTo>
                    <a:pt x="10" y="63"/>
                  </a:moveTo>
                  <a:lnTo>
                    <a:pt x="0" y="0"/>
                  </a:lnTo>
                  <a:lnTo>
                    <a:pt x="10" y="9"/>
                  </a:lnTo>
                  <a:lnTo>
                    <a:pt x="10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06920" y="2216160"/>
              <a:ext cx="15840" cy="114120"/>
            </a:xfrm>
            <a:custGeom>
              <a:avLst/>
              <a:gdLst/>
              <a:ahLst/>
              <a:rect l="l" t="t" r="r" b="b"/>
              <a:pathLst>
                <a:path w="10" h="72">
                  <a:moveTo>
                    <a:pt x="10" y="63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0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78480" y="2216160"/>
              <a:ext cx="28440" cy="11412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78480" y="2216160"/>
              <a:ext cx="28440" cy="11412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50040" y="2216160"/>
              <a:ext cx="28440" cy="11412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50040" y="2216160"/>
              <a:ext cx="28440" cy="11412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35640" y="2216160"/>
              <a:ext cx="14400" cy="114120"/>
            </a:xfrm>
            <a:custGeom>
              <a:avLst/>
              <a:gdLst/>
              <a:ahLst/>
              <a:rect l="l" t="t" r="r" b="b"/>
              <a:pathLst>
                <a:path w="9" h="72">
                  <a:moveTo>
                    <a:pt x="9" y="72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5640" y="2230560"/>
              <a:ext cx="14400" cy="99720"/>
            </a:xfrm>
            <a:custGeom>
              <a:avLst/>
              <a:gdLst/>
              <a:ahLst/>
              <a:rect l="l" t="t" r="r" b="b"/>
              <a:pathLst>
                <a:path w="9" h="63">
                  <a:moveTo>
                    <a:pt x="9" y="63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21240" y="2230560"/>
              <a:ext cx="1440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54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21240" y="2244600"/>
              <a:ext cx="14400" cy="7164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21240" y="2244600"/>
              <a:ext cx="180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22760" y="2548080"/>
              <a:ext cx="1800" cy="5688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18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06920" y="2533680"/>
              <a:ext cx="15840" cy="7128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10" y="45"/>
                  </a:moveTo>
                  <a:lnTo>
                    <a:pt x="0" y="0"/>
                  </a:lnTo>
                  <a:lnTo>
                    <a:pt x="10" y="9"/>
                  </a:lnTo>
                  <a:lnTo>
                    <a:pt x="10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06920" y="2533680"/>
              <a:ext cx="15840" cy="8568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45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0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92880" y="2519280"/>
              <a:ext cx="14040" cy="100080"/>
            </a:xfrm>
            <a:custGeom>
              <a:avLst/>
              <a:gdLst/>
              <a:ahLst/>
              <a:rect l="l" t="t" r="r" b="b"/>
              <a:pathLst>
                <a:path w="9" h="63">
                  <a:moveTo>
                    <a:pt x="9" y="63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92880" y="2519280"/>
              <a:ext cx="14040" cy="114480"/>
            </a:xfrm>
            <a:custGeom>
              <a:avLst/>
              <a:gdLst/>
              <a:ahLst/>
              <a:rect l="l" t="t" r="r" b="b"/>
              <a:pathLst>
                <a:path w="9" h="72">
                  <a:moveTo>
                    <a:pt x="9" y="63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64080" y="2519280"/>
              <a:ext cx="28800" cy="11448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64080" y="2519280"/>
              <a:ext cx="28800" cy="11448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35640" y="2519280"/>
              <a:ext cx="28440" cy="11448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35640" y="2519280"/>
              <a:ext cx="28440" cy="11448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21240" y="2519280"/>
              <a:ext cx="14400" cy="114480"/>
            </a:xfrm>
            <a:custGeom>
              <a:avLst/>
              <a:gdLst/>
              <a:ahLst/>
              <a:rect l="l" t="t" r="r" b="b"/>
              <a:pathLst>
                <a:path w="9" h="72">
                  <a:moveTo>
                    <a:pt x="9" y="72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21240" y="2533680"/>
              <a:ext cx="14400" cy="100080"/>
            </a:xfrm>
            <a:custGeom>
              <a:avLst/>
              <a:gdLst/>
              <a:ahLst/>
              <a:rect l="l" t="t" r="r" b="b"/>
              <a:pathLst>
                <a:path w="9" h="63">
                  <a:moveTo>
                    <a:pt x="9" y="63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07200" y="2533680"/>
              <a:ext cx="1404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54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07200" y="2548080"/>
              <a:ext cx="1404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07200" y="2548080"/>
              <a:ext cx="1440" cy="5688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64080" y="2374920"/>
              <a:ext cx="180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18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50040" y="2360520"/>
              <a:ext cx="14040" cy="7164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0040" y="2360520"/>
              <a:ext cx="1404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45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35640" y="2344680"/>
              <a:ext cx="14400" cy="10152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9" y="10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35640" y="234468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64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07200" y="234468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07200" y="234468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78400" y="234468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78400" y="234468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62560" y="2344680"/>
              <a:ext cx="15840" cy="115920"/>
            </a:xfrm>
            <a:custGeom>
              <a:avLst/>
              <a:gdLst/>
              <a:ahLst/>
              <a:rect l="l" t="t" r="r" b="b"/>
              <a:pathLst>
                <a:path w="10" h="73">
                  <a:moveTo>
                    <a:pt x="10" y="73"/>
                  </a:moveTo>
                  <a:lnTo>
                    <a:pt x="0" y="10"/>
                  </a:lnTo>
                  <a:lnTo>
                    <a:pt x="10" y="0"/>
                  </a:lnTo>
                  <a:lnTo>
                    <a:pt x="10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62560" y="2360520"/>
              <a:ext cx="15840" cy="100080"/>
            </a:xfrm>
            <a:custGeom>
              <a:avLst/>
              <a:gdLst/>
              <a:ahLst/>
              <a:rect l="l" t="t" r="r" b="b"/>
              <a:pathLst>
                <a:path w="10" h="63">
                  <a:moveTo>
                    <a:pt x="10" y="63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0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48160" y="2360520"/>
              <a:ext cx="1440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54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48160" y="237492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48160" y="2374920"/>
              <a:ext cx="180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92800" y="23605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18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78400" y="2344680"/>
              <a:ext cx="14400" cy="73080"/>
            </a:xfrm>
            <a:custGeom>
              <a:avLst/>
              <a:gdLst/>
              <a:ahLst/>
              <a:rect l="l" t="t" r="r" b="b"/>
              <a:pathLst>
                <a:path w="9" h="46">
                  <a:moveTo>
                    <a:pt x="9" y="46"/>
                  </a:moveTo>
                  <a:lnTo>
                    <a:pt x="0" y="0"/>
                  </a:lnTo>
                  <a:lnTo>
                    <a:pt x="9" y="10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78400" y="2344680"/>
              <a:ext cx="14400" cy="8748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9" y="46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62560" y="2330280"/>
              <a:ext cx="15840" cy="101880"/>
            </a:xfrm>
            <a:custGeom>
              <a:avLst/>
              <a:gdLst/>
              <a:ahLst/>
              <a:rect l="l" t="t" r="r" b="b"/>
              <a:pathLst>
                <a:path w="10" h="64">
                  <a:moveTo>
                    <a:pt x="10" y="64"/>
                  </a:moveTo>
                  <a:lnTo>
                    <a:pt x="0" y="0"/>
                  </a:lnTo>
                  <a:lnTo>
                    <a:pt x="10" y="9"/>
                  </a:lnTo>
                  <a:lnTo>
                    <a:pt x="10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2560" y="2330280"/>
              <a:ext cx="15840" cy="115920"/>
            </a:xfrm>
            <a:custGeom>
              <a:avLst/>
              <a:gdLst/>
              <a:ahLst/>
              <a:rect l="l" t="t" r="r" b="b"/>
              <a:pathLst>
                <a:path w="10" h="73">
                  <a:moveTo>
                    <a:pt x="10" y="64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0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34120" y="233028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4120" y="233028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05320" y="233028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05320" y="233028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91280" y="2330280"/>
              <a:ext cx="1404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73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91280" y="2344680"/>
              <a:ext cx="14040" cy="10152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76880" y="2344680"/>
              <a:ext cx="14400" cy="8748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9" y="55"/>
                  </a:moveTo>
                  <a:lnTo>
                    <a:pt x="0" y="10"/>
                  </a:lnTo>
                  <a:lnTo>
                    <a:pt x="9" y="0"/>
                  </a:lnTo>
                  <a:lnTo>
                    <a:pt x="9" y="5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880" y="2360520"/>
              <a:ext cx="14400" cy="7164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76880" y="23605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22840" y="2344680"/>
              <a:ext cx="180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19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08800" y="2330280"/>
              <a:ext cx="14040" cy="73080"/>
            </a:xfrm>
            <a:custGeom>
              <a:avLst/>
              <a:gdLst/>
              <a:ahLst/>
              <a:rect l="l" t="t" r="r" b="b"/>
              <a:pathLst>
                <a:path w="9" h="46">
                  <a:moveTo>
                    <a:pt x="9" y="46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08800" y="2330280"/>
              <a:ext cx="14040" cy="8748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9" y="46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94400" y="2316240"/>
              <a:ext cx="14400" cy="10152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94400" y="231624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64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65600" y="231624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65600" y="231624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37160" y="231624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37160" y="231624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22760" y="231624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73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22760" y="2330280"/>
              <a:ext cx="14400" cy="10188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06920" y="2330280"/>
              <a:ext cx="15840" cy="87480"/>
            </a:xfrm>
            <a:custGeom>
              <a:avLst/>
              <a:gdLst/>
              <a:ahLst/>
              <a:rect l="l" t="t" r="r" b="b"/>
              <a:pathLst>
                <a:path w="10" h="55">
                  <a:moveTo>
                    <a:pt x="10" y="55"/>
                  </a:moveTo>
                  <a:lnTo>
                    <a:pt x="0" y="9"/>
                  </a:lnTo>
                  <a:lnTo>
                    <a:pt x="10" y="0"/>
                  </a:lnTo>
                  <a:lnTo>
                    <a:pt x="10" y="5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06920" y="2344680"/>
              <a:ext cx="15840" cy="7308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46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06920" y="2344680"/>
              <a:ext cx="180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0"/>
                  </a:moveTo>
                  <a:lnTo>
                    <a:pt x="0" y="19"/>
                  </a:lnTo>
                  <a:lnTo>
                    <a:pt x="0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95920" y="2749680"/>
              <a:ext cx="1440" cy="5688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18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81520" y="273528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81520" y="2735280"/>
              <a:ext cx="1440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45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67480" y="2720880"/>
              <a:ext cx="14040" cy="100080"/>
            </a:xfrm>
            <a:custGeom>
              <a:avLst/>
              <a:gdLst/>
              <a:ahLst/>
              <a:rect l="l" t="t" r="r" b="b"/>
              <a:pathLst>
                <a:path w="9" h="63">
                  <a:moveTo>
                    <a:pt x="9" y="63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67480" y="2720880"/>
              <a:ext cx="1404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6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37240" y="272088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19" y="73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37240" y="272088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19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08800" y="272088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08800" y="272088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94400" y="272088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73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94400" y="2735280"/>
              <a:ext cx="14400" cy="10152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80000" y="2735280"/>
              <a:ext cx="1440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54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0000" y="274968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80000" y="2749680"/>
              <a:ext cx="1800" cy="5688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80000" y="2720880"/>
              <a:ext cx="180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18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65600" y="270684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5600" y="2706840"/>
              <a:ext cx="1440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45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51560" y="2692440"/>
              <a:ext cx="14040" cy="100080"/>
            </a:xfrm>
            <a:custGeom>
              <a:avLst/>
              <a:gdLst/>
              <a:ahLst/>
              <a:rect l="l" t="t" r="r" b="b"/>
              <a:pathLst>
                <a:path w="9" h="63">
                  <a:moveTo>
                    <a:pt x="9" y="63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51560" y="2692440"/>
              <a:ext cx="14040" cy="114120"/>
            </a:xfrm>
            <a:custGeom>
              <a:avLst/>
              <a:gdLst/>
              <a:ahLst/>
              <a:rect l="l" t="t" r="r" b="b"/>
              <a:pathLst>
                <a:path w="9" h="72">
                  <a:moveTo>
                    <a:pt x="9" y="63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22760" y="2692440"/>
              <a:ext cx="28800" cy="11412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22760" y="2692440"/>
              <a:ext cx="28800" cy="11412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92880" y="2692440"/>
              <a:ext cx="29880" cy="114120"/>
            </a:xfrm>
            <a:custGeom>
              <a:avLst/>
              <a:gdLst/>
              <a:ahLst/>
              <a:rect l="l" t="t" r="r" b="b"/>
              <a:pathLst>
                <a:path w="19" h="72">
                  <a:moveTo>
                    <a:pt x="19" y="72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92880" y="2692440"/>
              <a:ext cx="29880" cy="114120"/>
            </a:xfrm>
            <a:custGeom>
              <a:avLst/>
              <a:gdLst/>
              <a:ahLst/>
              <a:rect l="l" t="t" r="r" b="b"/>
              <a:pathLst>
                <a:path w="19" h="72">
                  <a:moveTo>
                    <a:pt x="19" y="7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9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78480" y="2692440"/>
              <a:ext cx="14400" cy="114120"/>
            </a:xfrm>
            <a:custGeom>
              <a:avLst/>
              <a:gdLst/>
              <a:ahLst/>
              <a:rect l="l" t="t" r="r" b="b"/>
              <a:pathLst>
                <a:path w="9" h="72">
                  <a:moveTo>
                    <a:pt x="9" y="72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78480" y="2706840"/>
              <a:ext cx="14400" cy="99720"/>
            </a:xfrm>
            <a:custGeom>
              <a:avLst/>
              <a:gdLst/>
              <a:ahLst/>
              <a:rect l="l" t="t" r="r" b="b"/>
              <a:pathLst>
                <a:path w="9" h="63">
                  <a:moveTo>
                    <a:pt x="9" y="63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64080" y="2706840"/>
              <a:ext cx="1440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54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64080" y="2720880"/>
              <a:ext cx="14400" cy="7164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64080" y="2720880"/>
              <a:ext cx="180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06920" y="2389320"/>
              <a:ext cx="1800" cy="5688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18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92880" y="2374920"/>
              <a:ext cx="1404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92880" y="2374920"/>
              <a:ext cx="1404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45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478480" y="2360520"/>
            <a:ext cx="14400" cy="100080"/>
          </a:xfrm>
          <a:custGeom>
            <a:avLst/>
            <a:gdLst/>
            <a:ahLst/>
            <a:rect l="l" t="t" r="r" b="b"/>
            <a:pathLst>
              <a:path w="9" h="63">
                <a:moveTo>
                  <a:pt x="9" y="63"/>
                </a:moveTo>
                <a:lnTo>
                  <a:pt x="0" y="0"/>
                </a:lnTo>
                <a:lnTo>
                  <a:pt x="9" y="9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8480" y="2360520"/>
            <a:ext cx="14400" cy="114480"/>
          </a:xfrm>
          <a:custGeom>
            <a:avLst/>
            <a:gdLst/>
            <a:ahLst/>
            <a:rect l="l" t="t" r="r" b="b"/>
            <a:pathLst>
              <a:path w="9" h="72">
                <a:moveTo>
                  <a:pt x="9" y="63"/>
                </a:moveTo>
                <a:lnTo>
                  <a:pt x="0" y="0"/>
                </a:lnTo>
                <a:lnTo>
                  <a:pt x="0" y="72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50040" y="2360520"/>
            <a:ext cx="2844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18" y="0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50040" y="2360520"/>
            <a:ext cx="2844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0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21240" y="2360520"/>
            <a:ext cx="2880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18" y="0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21240" y="2360520"/>
            <a:ext cx="2880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0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07200" y="2360520"/>
            <a:ext cx="14040" cy="114480"/>
          </a:xfrm>
          <a:custGeom>
            <a:avLst/>
            <a:gdLst/>
            <a:ahLst/>
            <a:rect l="l" t="t" r="r" b="b"/>
            <a:pathLst>
              <a:path w="9" h="72">
                <a:moveTo>
                  <a:pt x="9" y="72"/>
                </a:moveTo>
                <a:lnTo>
                  <a:pt x="0" y="9"/>
                </a:lnTo>
                <a:lnTo>
                  <a:pt x="9" y="0"/>
                </a:lnTo>
                <a:lnTo>
                  <a:pt x="9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07200" y="2374920"/>
            <a:ext cx="14040" cy="100080"/>
          </a:xfrm>
          <a:custGeom>
            <a:avLst/>
            <a:gdLst/>
            <a:ahLst/>
            <a:rect l="l" t="t" r="r" b="b"/>
            <a:pathLst>
              <a:path w="9" h="63">
                <a:moveTo>
                  <a:pt x="9" y="63"/>
                </a:moveTo>
                <a:lnTo>
                  <a:pt x="0" y="0"/>
                </a:lnTo>
                <a:lnTo>
                  <a:pt x="0" y="54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92800" y="2374920"/>
            <a:ext cx="14400" cy="85680"/>
          </a:xfrm>
          <a:custGeom>
            <a:avLst/>
            <a:gdLst/>
            <a:ahLst/>
            <a:rect l="l" t="t" r="r" b="b"/>
            <a:pathLst>
              <a:path w="9" h="54">
                <a:moveTo>
                  <a:pt x="9" y="54"/>
                </a:moveTo>
                <a:lnTo>
                  <a:pt x="0" y="9"/>
                </a:lnTo>
                <a:lnTo>
                  <a:pt x="9" y="0"/>
                </a:lnTo>
                <a:lnTo>
                  <a:pt x="9" y="5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92800" y="2389320"/>
            <a:ext cx="14400" cy="7128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45"/>
                </a:moveTo>
                <a:lnTo>
                  <a:pt x="0" y="0"/>
                </a:lnTo>
                <a:lnTo>
                  <a:pt x="0" y="36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92800" y="2389320"/>
            <a:ext cx="1440" cy="5688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0"/>
                </a:moveTo>
                <a:lnTo>
                  <a:pt x="0" y="18"/>
                </a:lnTo>
                <a:lnTo>
                  <a:pt x="0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22880" y="4351320"/>
            <a:ext cx="1440" cy="58680"/>
          </a:xfrm>
          <a:custGeom>
            <a:avLst/>
            <a:gdLst/>
            <a:ahLst/>
            <a:rect l="l" t="t" r="r" b="b"/>
            <a:pathLst>
              <a:path w="0" h="37">
                <a:moveTo>
                  <a:pt x="0" y="18"/>
                </a:moveTo>
                <a:lnTo>
                  <a:pt x="0" y="0"/>
                </a:lnTo>
                <a:lnTo>
                  <a:pt x="0" y="37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08480" y="4336920"/>
            <a:ext cx="14400" cy="7308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46"/>
                </a:moveTo>
                <a:lnTo>
                  <a:pt x="0" y="0"/>
                </a:lnTo>
                <a:lnTo>
                  <a:pt x="9" y="9"/>
                </a:lnTo>
                <a:lnTo>
                  <a:pt x="9" y="4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08480" y="4336920"/>
            <a:ext cx="14400" cy="87480"/>
          </a:xfrm>
          <a:custGeom>
            <a:avLst/>
            <a:gdLst/>
            <a:ahLst/>
            <a:rect l="l" t="t" r="r" b="b"/>
            <a:pathLst>
              <a:path w="9" h="55">
                <a:moveTo>
                  <a:pt x="9" y="46"/>
                </a:moveTo>
                <a:lnTo>
                  <a:pt x="0" y="0"/>
                </a:lnTo>
                <a:lnTo>
                  <a:pt x="0" y="55"/>
                </a:lnTo>
                <a:lnTo>
                  <a:pt x="9" y="4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94080" y="4322880"/>
            <a:ext cx="14400" cy="101520"/>
          </a:xfrm>
          <a:custGeom>
            <a:avLst/>
            <a:gdLst/>
            <a:ahLst/>
            <a:rect l="l" t="t" r="r" b="b"/>
            <a:pathLst>
              <a:path w="9" h="64">
                <a:moveTo>
                  <a:pt x="9" y="64"/>
                </a:moveTo>
                <a:lnTo>
                  <a:pt x="0" y="0"/>
                </a:lnTo>
                <a:lnTo>
                  <a:pt x="9" y="9"/>
                </a:lnTo>
                <a:lnTo>
                  <a:pt x="9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94080" y="4322880"/>
            <a:ext cx="14400" cy="115920"/>
          </a:xfrm>
          <a:custGeom>
            <a:avLst/>
            <a:gdLst/>
            <a:ahLst/>
            <a:rect l="l" t="t" r="r" b="b"/>
            <a:pathLst>
              <a:path w="9" h="73">
                <a:moveTo>
                  <a:pt x="9" y="64"/>
                </a:moveTo>
                <a:lnTo>
                  <a:pt x="0" y="0"/>
                </a:lnTo>
                <a:lnTo>
                  <a:pt x="0" y="73"/>
                </a:lnTo>
                <a:lnTo>
                  <a:pt x="9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65640" y="4322880"/>
            <a:ext cx="28440" cy="115920"/>
          </a:xfrm>
          <a:custGeom>
            <a:avLst/>
            <a:gdLst/>
            <a:ahLst/>
            <a:rect l="l" t="t" r="r" b="b"/>
            <a:pathLst>
              <a:path w="18" h="73">
                <a:moveTo>
                  <a:pt x="18" y="73"/>
                </a:moveTo>
                <a:lnTo>
                  <a:pt x="0" y="0"/>
                </a:lnTo>
                <a:lnTo>
                  <a:pt x="18" y="0"/>
                </a:lnTo>
                <a:lnTo>
                  <a:pt x="18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65640" y="4322880"/>
            <a:ext cx="28440" cy="115920"/>
          </a:xfrm>
          <a:custGeom>
            <a:avLst/>
            <a:gdLst/>
            <a:ahLst/>
            <a:rect l="l" t="t" r="r" b="b"/>
            <a:pathLst>
              <a:path w="18" h="73">
                <a:moveTo>
                  <a:pt x="18" y="73"/>
                </a:moveTo>
                <a:lnTo>
                  <a:pt x="0" y="0"/>
                </a:lnTo>
                <a:lnTo>
                  <a:pt x="0" y="73"/>
                </a:lnTo>
                <a:lnTo>
                  <a:pt x="18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35400" y="4322880"/>
            <a:ext cx="3024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19" y="73"/>
                </a:moveTo>
                <a:lnTo>
                  <a:pt x="0" y="0"/>
                </a:lnTo>
                <a:lnTo>
                  <a:pt x="19" y="0"/>
                </a:lnTo>
                <a:lnTo>
                  <a:pt x="1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35400" y="4322880"/>
            <a:ext cx="3024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19" y="73"/>
                </a:move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21000" y="4322880"/>
            <a:ext cx="14400" cy="115920"/>
          </a:xfrm>
          <a:custGeom>
            <a:avLst/>
            <a:gdLst/>
            <a:ahLst/>
            <a:rect l="l" t="t" r="r" b="b"/>
            <a:pathLst>
              <a:path w="9" h="73">
                <a:moveTo>
                  <a:pt x="9" y="73"/>
                </a:moveTo>
                <a:lnTo>
                  <a:pt x="0" y="9"/>
                </a:lnTo>
                <a:lnTo>
                  <a:pt x="9" y="0"/>
                </a:lnTo>
                <a:lnTo>
                  <a:pt x="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21000" y="4336920"/>
            <a:ext cx="14400" cy="101880"/>
          </a:xfrm>
          <a:custGeom>
            <a:avLst/>
            <a:gdLst/>
            <a:ahLst/>
            <a:rect l="l" t="t" r="r" b="b"/>
            <a:pathLst>
              <a:path w="9" h="64">
                <a:moveTo>
                  <a:pt x="9" y="64"/>
                </a:moveTo>
                <a:lnTo>
                  <a:pt x="0" y="0"/>
                </a:lnTo>
                <a:lnTo>
                  <a:pt x="0" y="55"/>
                </a:lnTo>
                <a:lnTo>
                  <a:pt x="9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06960" y="4336920"/>
            <a:ext cx="14040" cy="87480"/>
          </a:xfrm>
          <a:custGeom>
            <a:avLst/>
            <a:gdLst/>
            <a:ahLst/>
            <a:rect l="l" t="t" r="r" b="b"/>
            <a:pathLst>
              <a:path w="9" h="55">
                <a:moveTo>
                  <a:pt x="9" y="55"/>
                </a:moveTo>
                <a:lnTo>
                  <a:pt x="0" y="9"/>
                </a:lnTo>
                <a:lnTo>
                  <a:pt x="9" y="0"/>
                </a:lnTo>
                <a:lnTo>
                  <a:pt x="9" y="5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06960" y="4351320"/>
            <a:ext cx="14040" cy="7308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46"/>
                </a:moveTo>
                <a:lnTo>
                  <a:pt x="0" y="0"/>
                </a:lnTo>
                <a:lnTo>
                  <a:pt x="0" y="37"/>
                </a:lnTo>
                <a:lnTo>
                  <a:pt x="9" y="4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06960" y="4351320"/>
            <a:ext cx="1440" cy="58680"/>
          </a:xfrm>
          <a:custGeom>
            <a:avLst/>
            <a:gdLst/>
            <a:ahLst/>
            <a:rect l="l" t="t" r="r" b="b"/>
            <a:pathLst>
              <a:path w="0" h="37">
                <a:moveTo>
                  <a:pt x="0" y="0"/>
                </a:moveTo>
                <a:lnTo>
                  <a:pt x="0" y="18"/>
                </a:ln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19720" y="3630600"/>
            <a:ext cx="1440" cy="5724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18"/>
                </a:moveTo>
                <a:lnTo>
                  <a:pt x="0" y="0"/>
                </a:lnTo>
                <a:lnTo>
                  <a:pt x="0" y="36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05320" y="3616200"/>
            <a:ext cx="14400" cy="7164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45"/>
                </a:moveTo>
                <a:lnTo>
                  <a:pt x="0" y="0"/>
                </a:lnTo>
                <a:lnTo>
                  <a:pt x="9" y="9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05320" y="3616200"/>
            <a:ext cx="14400" cy="85680"/>
          </a:xfrm>
          <a:custGeom>
            <a:avLst/>
            <a:gdLst/>
            <a:ahLst/>
            <a:rect l="l" t="t" r="r" b="b"/>
            <a:pathLst>
              <a:path w="9" h="54">
                <a:moveTo>
                  <a:pt x="9" y="45"/>
                </a:moveTo>
                <a:lnTo>
                  <a:pt x="0" y="0"/>
                </a:lnTo>
                <a:lnTo>
                  <a:pt x="0" y="54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91280" y="3600360"/>
            <a:ext cx="14040" cy="101520"/>
          </a:xfrm>
          <a:custGeom>
            <a:avLst/>
            <a:gdLst/>
            <a:ahLst/>
            <a:rect l="l" t="t" r="r" b="b"/>
            <a:pathLst>
              <a:path w="9" h="64">
                <a:moveTo>
                  <a:pt x="9" y="64"/>
                </a:moveTo>
                <a:lnTo>
                  <a:pt x="0" y="0"/>
                </a:lnTo>
                <a:lnTo>
                  <a:pt x="9" y="10"/>
                </a:lnTo>
                <a:lnTo>
                  <a:pt x="9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91280" y="3600360"/>
            <a:ext cx="14040" cy="115920"/>
          </a:xfrm>
          <a:custGeom>
            <a:avLst/>
            <a:gdLst/>
            <a:ahLst/>
            <a:rect l="l" t="t" r="r" b="b"/>
            <a:pathLst>
              <a:path w="9" h="73">
                <a:moveTo>
                  <a:pt x="9" y="64"/>
                </a:moveTo>
                <a:lnTo>
                  <a:pt x="0" y="0"/>
                </a:lnTo>
                <a:lnTo>
                  <a:pt x="0" y="73"/>
                </a:lnTo>
                <a:lnTo>
                  <a:pt x="9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62480" y="3600360"/>
            <a:ext cx="28800" cy="115920"/>
          </a:xfrm>
          <a:custGeom>
            <a:avLst/>
            <a:gdLst/>
            <a:ahLst/>
            <a:rect l="l" t="t" r="r" b="b"/>
            <a:pathLst>
              <a:path w="18" h="73">
                <a:moveTo>
                  <a:pt x="18" y="73"/>
                </a:moveTo>
                <a:lnTo>
                  <a:pt x="0" y="0"/>
                </a:lnTo>
                <a:lnTo>
                  <a:pt x="18" y="0"/>
                </a:lnTo>
                <a:lnTo>
                  <a:pt x="18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2480" y="3600360"/>
            <a:ext cx="28800" cy="115920"/>
          </a:xfrm>
          <a:custGeom>
            <a:avLst/>
            <a:gdLst/>
            <a:ahLst/>
            <a:rect l="l" t="t" r="r" b="b"/>
            <a:pathLst>
              <a:path w="18" h="73">
                <a:moveTo>
                  <a:pt x="18" y="73"/>
                </a:moveTo>
                <a:lnTo>
                  <a:pt x="0" y="0"/>
                </a:lnTo>
                <a:lnTo>
                  <a:pt x="0" y="73"/>
                </a:lnTo>
                <a:lnTo>
                  <a:pt x="18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32240" y="3600360"/>
            <a:ext cx="3024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19" y="73"/>
                </a:moveTo>
                <a:lnTo>
                  <a:pt x="0" y="0"/>
                </a:lnTo>
                <a:lnTo>
                  <a:pt x="19" y="0"/>
                </a:lnTo>
                <a:lnTo>
                  <a:pt x="1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232240" y="3600360"/>
            <a:ext cx="3024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19" y="73"/>
                </a:move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18200" y="3600360"/>
            <a:ext cx="14040" cy="115920"/>
          </a:xfrm>
          <a:custGeom>
            <a:avLst/>
            <a:gdLst/>
            <a:ahLst/>
            <a:rect l="l" t="t" r="r" b="b"/>
            <a:pathLst>
              <a:path w="9" h="73">
                <a:moveTo>
                  <a:pt x="9" y="73"/>
                </a:moveTo>
                <a:lnTo>
                  <a:pt x="0" y="10"/>
                </a:lnTo>
                <a:lnTo>
                  <a:pt x="9" y="0"/>
                </a:lnTo>
                <a:lnTo>
                  <a:pt x="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18200" y="3616200"/>
            <a:ext cx="14040" cy="100080"/>
          </a:xfrm>
          <a:custGeom>
            <a:avLst/>
            <a:gdLst/>
            <a:ahLst/>
            <a:rect l="l" t="t" r="r" b="b"/>
            <a:pathLst>
              <a:path w="9" h="63">
                <a:moveTo>
                  <a:pt x="9" y="63"/>
                </a:moveTo>
                <a:lnTo>
                  <a:pt x="0" y="0"/>
                </a:lnTo>
                <a:lnTo>
                  <a:pt x="0" y="54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03800" y="3616200"/>
            <a:ext cx="14400" cy="85680"/>
          </a:xfrm>
          <a:custGeom>
            <a:avLst/>
            <a:gdLst/>
            <a:ahLst/>
            <a:rect l="l" t="t" r="r" b="b"/>
            <a:pathLst>
              <a:path w="9" h="54">
                <a:moveTo>
                  <a:pt x="9" y="54"/>
                </a:moveTo>
                <a:lnTo>
                  <a:pt x="0" y="9"/>
                </a:lnTo>
                <a:lnTo>
                  <a:pt x="9" y="0"/>
                </a:lnTo>
                <a:lnTo>
                  <a:pt x="9" y="5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03800" y="3630600"/>
            <a:ext cx="14400" cy="7128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45"/>
                </a:moveTo>
                <a:lnTo>
                  <a:pt x="0" y="0"/>
                </a:lnTo>
                <a:lnTo>
                  <a:pt x="0" y="36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03800" y="3630600"/>
            <a:ext cx="1440" cy="5724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0"/>
                </a:moveTo>
                <a:lnTo>
                  <a:pt x="0" y="18"/>
                </a:lnTo>
                <a:lnTo>
                  <a:pt x="0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87800" y="3370320"/>
            <a:ext cx="1800" cy="5724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18"/>
                </a:moveTo>
                <a:lnTo>
                  <a:pt x="0" y="0"/>
                </a:lnTo>
                <a:lnTo>
                  <a:pt x="0" y="36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73760" y="3355920"/>
            <a:ext cx="14040" cy="7164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45"/>
                </a:moveTo>
                <a:lnTo>
                  <a:pt x="0" y="0"/>
                </a:lnTo>
                <a:lnTo>
                  <a:pt x="9" y="9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73760" y="3355920"/>
            <a:ext cx="14040" cy="85680"/>
          </a:xfrm>
          <a:custGeom>
            <a:avLst/>
            <a:gdLst/>
            <a:ahLst/>
            <a:rect l="l" t="t" r="r" b="b"/>
            <a:pathLst>
              <a:path w="9" h="54">
                <a:moveTo>
                  <a:pt x="9" y="45"/>
                </a:moveTo>
                <a:lnTo>
                  <a:pt x="0" y="0"/>
                </a:lnTo>
                <a:lnTo>
                  <a:pt x="0" y="54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9360" y="3341520"/>
            <a:ext cx="14400" cy="100080"/>
          </a:xfrm>
          <a:custGeom>
            <a:avLst/>
            <a:gdLst/>
            <a:ahLst/>
            <a:rect l="l" t="t" r="r" b="b"/>
            <a:pathLst>
              <a:path w="9" h="63">
                <a:moveTo>
                  <a:pt x="9" y="63"/>
                </a:moveTo>
                <a:lnTo>
                  <a:pt x="0" y="0"/>
                </a:lnTo>
                <a:lnTo>
                  <a:pt x="9" y="9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59360" y="3341520"/>
            <a:ext cx="14400" cy="115920"/>
          </a:xfrm>
          <a:custGeom>
            <a:avLst/>
            <a:gdLst/>
            <a:ahLst/>
            <a:rect l="l" t="t" r="r" b="b"/>
            <a:pathLst>
              <a:path w="9" h="73">
                <a:moveTo>
                  <a:pt x="9" y="63"/>
                </a:moveTo>
                <a:lnTo>
                  <a:pt x="0" y="0"/>
                </a:lnTo>
                <a:lnTo>
                  <a:pt x="0" y="73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29120" y="3341520"/>
            <a:ext cx="3024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19" y="73"/>
                </a:moveTo>
                <a:lnTo>
                  <a:pt x="0" y="0"/>
                </a:lnTo>
                <a:lnTo>
                  <a:pt x="19" y="0"/>
                </a:lnTo>
                <a:lnTo>
                  <a:pt x="1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29120" y="3341520"/>
            <a:ext cx="3024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19" y="73"/>
                </a:move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00680" y="3341520"/>
            <a:ext cx="28440" cy="115920"/>
          </a:xfrm>
          <a:custGeom>
            <a:avLst/>
            <a:gdLst/>
            <a:ahLst/>
            <a:rect l="l" t="t" r="r" b="b"/>
            <a:pathLst>
              <a:path w="18" h="73">
                <a:moveTo>
                  <a:pt x="18" y="73"/>
                </a:moveTo>
                <a:lnTo>
                  <a:pt x="0" y="0"/>
                </a:lnTo>
                <a:lnTo>
                  <a:pt x="18" y="0"/>
                </a:lnTo>
                <a:lnTo>
                  <a:pt x="18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00680" y="3341520"/>
            <a:ext cx="28440" cy="115920"/>
          </a:xfrm>
          <a:custGeom>
            <a:avLst/>
            <a:gdLst/>
            <a:ahLst/>
            <a:rect l="l" t="t" r="r" b="b"/>
            <a:pathLst>
              <a:path w="18" h="73">
                <a:moveTo>
                  <a:pt x="18" y="73"/>
                </a:moveTo>
                <a:lnTo>
                  <a:pt x="0" y="0"/>
                </a:lnTo>
                <a:lnTo>
                  <a:pt x="0" y="73"/>
                </a:lnTo>
                <a:lnTo>
                  <a:pt x="18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86280" y="3341520"/>
            <a:ext cx="14400" cy="115920"/>
          </a:xfrm>
          <a:custGeom>
            <a:avLst/>
            <a:gdLst/>
            <a:ahLst/>
            <a:rect l="l" t="t" r="r" b="b"/>
            <a:pathLst>
              <a:path w="9" h="73">
                <a:moveTo>
                  <a:pt x="9" y="73"/>
                </a:moveTo>
                <a:lnTo>
                  <a:pt x="0" y="9"/>
                </a:lnTo>
                <a:lnTo>
                  <a:pt x="9" y="0"/>
                </a:lnTo>
                <a:lnTo>
                  <a:pt x="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86280" y="3355920"/>
            <a:ext cx="14400" cy="101520"/>
          </a:xfrm>
          <a:custGeom>
            <a:avLst/>
            <a:gdLst/>
            <a:ahLst/>
            <a:rect l="l" t="t" r="r" b="b"/>
            <a:pathLst>
              <a:path w="9" h="64">
                <a:moveTo>
                  <a:pt x="9" y="64"/>
                </a:moveTo>
                <a:lnTo>
                  <a:pt x="0" y="0"/>
                </a:lnTo>
                <a:lnTo>
                  <a:pt x="0" y="54"/>
                </a:lnTo>
                <a:lnTo>
                  <a:pt x="9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1880" y="3355920"/>
            <a:ext cx="14400" cy="85680"/>
          </a:xfrm>
          <a:custGeom>
            <a:avLst/>
            <a:gdLst/>
            <a:ahLst/>
            <a:rect l="l" t="t" r="r" b="b"/>
            <a:pathLst>
              <a:path w="9" h="54">
                <a:moveTo>
                  <a:pt x="9" y="54"/>
                </a:moveTo>
                <a:lnTo>
                  <a:pt x="0" y="9"/>
                </a:lnTo>
                <a:lnTo>
                  <a:pt x="9" y="0"/>
                </a:lnTo>
                <a:lnTo>
                  <a:pt x="9" y="5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71880" y="3370320"/>
            <a:ext cx="14400" cy="7128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45"/>
                </a:moveTo>
                <a:lnTo>
                  <a:pt x="0" y="0"/>
                </a:lnTo>
                <a:lnTo>
                  <a:pt x="0" y="36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71880" y="3370320"/>
            <a:ext cx="1800" cy="5724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0"/>
                </a:moveTo>
                <a:lnTo>
                  <a:pt x="0" y="18"/>
                </a:lnTo>
                <a:lnTo>
                  <a:pt x="0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86520" y="4438800"/>
            <a:ext cx="1440" cy="5688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18"/>
                </a:moveTo>
                <a:lnTo>
                  <a:pt x="0" y="0"/>
                </a:lnTo>
                <a:lnTo>
                  <a:pt x="0" y="36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72120" y="4424400"/>
            <a:ext cx="14400" cy="7128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45"/>
                </a:moveTo>
                <a:lnTo>
                  <a:pt x="0" y="0"/>
                </a:lnTo>
                <a:lnTo>
                  <a:pt x="9" y="9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72120" y="4424400"/>
            <a:ext cx="14400" cy="85680"/>
          </a:xfrm>
          <a:custGeom>
            <a:avLst/>
            <a:gdLst/>
            <a:ahLst/>
            <a:rect l="l" t="t" r="r" b="b"/>
            <a:pathLst>
              <a:path w="9" h="54">
                <a:moveTo>
                  <a:pt x="9" y="45"/>
                </a:moveTo>
                <a:lnTo>
                  <a:pt x="0" y="0"/>
                </a:lnTo>
                <a:lnTo>
                  <a:pt x="0" y="54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56280" y="4410000"/>
            <a:ext cx="15840" cy="100080"/>
          </a:xfrm>
          <a:custGeom>
            <a:avLst/>
            <a:gdLst/>
            <a:ahLst/>
            <a:rect l="l" t="t" r="r" b="b"/>
            <a:pathLst>
              <a:path w="10" h="63">
                <a:moveTo>
                  <a:pt x="10" y="63"/>
                </a:moveTo>
                <a:lnTo>
                  <a:pt x="0" y="0"/>
                </a:lnTo>
                <a:lnTo>
                  <a:pt x="10" y="9"/>
                </a:lnTo>
                <a:lnTo>
                  <a:pt x="10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56280" y="4410000"/>
            <a:ext cx="15840" cy="114480"/>
          </a:xfrm>
          <a:custGeom>
            <a:avLst/>
            <a:gdLst/>
            <a:ahLst/>
            <a:rect l="l" t="t" r="r" b="b"/>
            <a:pathLst>
              <a:path w="10" h="72">
                <a:moveTo>
                  <a:pt x="10" y="63"/>
                </a:moveTo>
                <a:lnTo>
                  <a:pt x="0" y="0"/>
                </a:lnTo>
                <a:lnTo>
                  <a:pt x="0" y="72"/>
                </a:lnTo>
                <a:lnTo>
                  <a:pt x="10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27840" y="4410000"/>
            <a:ext cx="2844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18" y="0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27840" y="4410000"/>
            <a:ext cx="2844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0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99040" y="4410000"/>
            <a:ext cx="2880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18" y="0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99040" y="4410000"/>
            <a:ext cx="2880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0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85000" y="4410000"/>
            <a:ext cx="14040" cy="114480"/>
          </a:xfrm>
          <a:custGeom>
            <a:avLst/>
            <a:gdLst/>
            <a:ahLst/>
            <a:rect l="l" t="t" r="r" b="b"/>
            <a:pathLst>
              <a:path w="9" h="72">
                <a:moveTo>
                  <a:pt x="9" y="72"/>
                </a:moveTo>
                <a:lnTo>
                  <a:pt x="0" y="9"/>
                </a:lnTo>
                <a:lnTo>
                  <a:pt x="9" y="0"/>
                </a:lnTo>
                <a:lnTo>
                  <a:pt x="9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85000" y="4424400"/>
            <a:ext cx="14040" cy="100080"/>
          </a:xfrm>
          <a:custGeom>
            <a:avLst/>
            <a:gdLst/>
            <a:ahLst/>
            <a:rect l="l" t="t" r="r" b="b"/>
            <a:pathLst>
              <a:path w="9" h="63">
                <a:moveTo>
                  <a:pt x="9" y="63"/>
                </a:moveTo>
                <a:lnTo>
                  <a:pt x="0" y="0"/>
                </a:lnTo>
                <a:lnTo>
                  <a:pt x="0" y="54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70600" y="4424400"/>
            <a:ext cx="14400" cy="85680"/>
          </a:xfrm>
          <a:custGeom>
            <a:avLst/>
            <a:gdLst/>
            <a:ahLst/>
            <a:rect l="l" t="t" r="r" b="b"/>
            <a:pathLst>
              <a:path w="9" h="54">
                <a:moveTo>
                  <a:pt x="9" y="54"/>
                </a:moveTo>
                <a:lnTo>
                  <a:pt x="0" y="9"/>
                </a:lnTo>
                <a:lnTo>
                  <a:pt x="9" y="0"/>
                </a:lnTo>
                <a:lnTo>
                  <a:pt x="9" y="5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70600" y="4438800"/>
            <a:ext cx="14400" cy="7128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45"/>
                </a:moveTo>
                <a:lnTo>
                  <a:pt x="0" y="0"/>
                </a:lnTo>
                <a:lnTo>
                  <a:pt x="0" y="36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70600" y="4438800"/>
            <a:ext cx="1440" cy="5688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0"/>
                </a:moveTo>
                <a:lnTo>
                  <a:pt x="0" y="18"/>
                </a:lnTo>
                <a:lnTo>
                  <a:pt x="0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16560" y="3817800"/>
            <a:ext cx="1800" cy="5724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18"/>
                </a:moveTo>
                <a:lnTo>
                  <a:pt x="0" y="0"/>
                </a:lnTo>
                <a:lnTo>
                  <a:pt x="0" y="36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02520" y="3803760"/>
            <a:ext cx="14040" cy="7128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45"/>
                </a:moveTo>
                <a:lnTo>
                  <a:pt x="0" y="0"/>
                </a:lnTo>
                <a:lnTo>
                  <a:pt x="9" y="9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02520" y="3803760"/>
            <a:ext cx="14040" cy="85680"/>
          </a:xfrm>
          <a:custGeom>
            <a:avLst/>
            <a:gdLst/>
            <a:ahLst/>
            <a:rect l="l" t="t" r="r" b="b"/>
            <a:pathLst>
              <a:path w="9" h="54">
                <a:moveTo>
                  <a:pt x="9" y="45"/>
                </a:moveTo>
                <a:lnTo>
                  <a:pt x="0" y="0"/>
                </a:lnTo>
                <a:lnTo>
                  <a:pt x="0" y="54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88120" y="3789360"/>
            <a:ext cx="14400" cy="100080"/>
          </a:xfrm>
          <a:custGeom>
            <a:avLst/>
            <a:gdLst/>
            <a:ahLst/>
            <a:rect l="l" t="t" r="r" b="b"/>
            <a:pathLst>
              <a:path w="9" h="63">
                <a:moveTo>
                  <a:pt x="9" y="63"/>
                </a:moveTo>
                <a:lnTo>
                  <a:pt x="0" y="0"/>
                </a:lnTo>
                <a:lnTo>
                  <a:pt x="9" y="9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88120" y="3789360"/>
            <a:ext cx="14400" cy="114480"/>
          </a:xfrm>
          <a:custGeom>
            <a:avLst/>
            <a:gdLst/>
            <a:ahLst/>
            <a:rect l="l" t="t" r="r" b="b"/>
            <a:pathLst>
              <a:path w="9" h="72">
                <a:moveTo>
                  <a:pt x="9" y="63"/>
                </a:moveTo>
                <a:lnTo>
                  <a:pt x="0" y="0"/>
                </a:lnTo>
                <a:lnTo>
                  <a:pt x="0" y="72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59680" y="3789360"/>
            <a:ext cx="2844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18" y="0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59680" y="3789360"/>
            <a:ext cx="2844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0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30880" y="3789360"/>
            <a:ext cx="2880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18" y="0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30880" y="3789360"/>
            <a:ext cx="2880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0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16480" y="3789360"/>
            <a:ext cx="14400" cy="114480"/>
          </a:xfrm>
          <a:custGeom>
            <a:avLst/>
            <a:gdLst/>
            <a:ahLst/>
            <a:rect l="l" t="t" r="r" b="b"/>
            <a:pathLst>
              <a:path w="9" h="72">
                <a:moveTo>
                  <a:pt x="9" y="72"/>
                </a:moveTo>
                <a:lnTo>
                  <a:pt x="0" y="9"/>
                </a:lnTo>
                <a:lnTo>
                  <a:pt x="9" y="0"/>
                </a:lnTo>
                <a:lnTo>
                  <a:pt x="9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216480" y="3803760"/>
            <a:ext cx="14400" cy="100080"/>
          </a:xfrm>
          <a:custGeom>
            <a:avLst/>
            <a:gdLst/>
            <a:ahLst/>
            <a:rect l="l" t="t" r="r" b="b"/>
            <a:pathLst>
              <a:path w="9" h="63">
                <a:moveTo>
                  <a:pt x="9" y="63"/>
                </a:moveTo>
                <a:lnTo>
                  <a:pt x="0" y="0"/>
                </a:lnTo>
                <a:lnTo>
                  <a:pt x="0" y="54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00640" y="3803760"/>
            <a:ext cx="15840" cy="85680"/>
          </a:xfrm>
          <a:custGeom>
            <a:avLst/>
            <a:gdLst/>
            <a:ahLst/>
            <a:rect l="l" t="t" r="r" b="b"/>
            <a:pathLst>
              <a:path w="10" h="54">
                <a:moveTo>
                  <a:pt x="10" y="54"/>
                </a:moveTo>
                <a:lnTo>
                  <a:pt x="0" y="9"/>
                </a:lnTo>
                <a:lnTo>
                  <a:pt x="10" y="0"/>
                </a:lnTo>
                <a:lnTo>
                  <a:pt x="10" y="5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00640" y="3817800"/>
            <a:ext cx="15840" cy="71640"/>
          </a:xfrm>
          <a:custGeom>
            <a:avLst/>
            <a:gdLst/>
            <a:ahLst/>
            <a:rect l="l" t="t" r="r" b="b"/>
            <a:pathLst>
              <a:path w="10" h="45">
                <a:moveTo>
                  <a:pt x="10" y="45"/>
                </a:moveTo>
                <a:lnTo>
                  <a:pt x="0" y="0"/>
                </a:lnTo>
                <a:lnTo>
                  <a:pt x="0" y="36"/>
                </a:lnTo>
                <a:lnTo>
                  <a:pt x="10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200640" y="3817800"/>
            <a:ext cx="1800" cy="5724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0"/>
                </a:moveTo>
                <a:lnTo>
                  <a:pt x="0" y="18"/>
                </a:lnTo>
                <a:lnTo>
                  <a:pt x="0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41920" y="371628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7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87880" y="324000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8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70360" y="404820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7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637240" y="4640400"/>
            <a:ext cx="8712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8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27840" y="449568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8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27840" y="469728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8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741920" y="3962520"/>
            <a:ext cx="87120" cy="85680"/>
          </a:xfrm>
          <a:custGeom>
            <a:avLst/>
            <a:gdLst/>
            <a:ahLst/>
            <a:rect l="l" t="t" r="r" b="b"/>
            <a:pathLst>
              <a:path w="55" h="54">
                <a:moveTo>
                  <a:pt x="55" y="54"/>
                </a:moveTo>
                <a:lnTo>
                  <a:pt x="0" y="54"/>
                </a:lnTo>
                <a:lnTo>
                  <a:pt x="27" y="0"/>
                </a:lnTo>
                <a:lnTo>
                  <a:pt x="55" y="5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71880" y="406224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7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73480" y="384660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8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71880" y="3789360"/>
            <a:ext cx="87480" cy="85680"/>
          </a:xfrm>
          <a:custGeom>
            <a:avLst/>
            <a:gdLst/>
            <a:ahLst/>
            <a:rect l="l" t="t" r="r" b="b"/>
            <a:pathLst>
              <a:path w="55" h="54">
                <a:moveTo>
                  <a:pt x="55" y="54"/>
                </a:moveTo>
                <a:lnTo>
                  <a:pt x="0" y="54"/>
                </a:lnTo>
                <a:lnTo>
                  <a:pt x="27" y="0"/>
                </a:lnTo>
                <a:lnTo>
                  <a:pt x="55" y="5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942160" y="396252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0" y="54"/>
                </a:lnTo>
                <a:lnTo>
                  <a:pt x="27" y="0"/>
                </a:lnTo>
                <a:lnTo>
                  <a:pt x="54" y="5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32520" y="4870440"/>
            <a:ext cx="85680" cy="87480"/>
          </a:xfrm>
          <a:custGeom>
            <a:avLst/>
            <a:gdLst/>
            <a:ahLst/>
            <a:rect l="l" t="t" r="r" b="b"/>
            <a:pathLst>
              <a:path w="54" h="55">
                <a:moveTo>
                  <a:pt x="54" y="55"/>
                </a:moveTo>
                <a:lnTo>
                  <a:pt x="0" y="55"/>
                </a:lnTo>
                <a:lnTo>
                  <a:pt x="27" y="0"/>
                </a:lnTo>
                <a:lnTo>
                  <a:pt x="54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64080" y="386064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7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62480" y="3571920"/>
            <a:ext cx="85680" cy="87120"/>
          </a:xfrm>
          <a:custGeom>
            <a:avLst/>
            <a:gdLst/>
            <a:ahLst/>
            <a:rect l="l" t="t" r="r" b="b"/>
            <a:pathLst>
              <a:path w="54" h="55">
                <a:moveTo>
                  <a:pt x="54" y="55"/>
                </a:moveTo>
                <a:lnTo>
                  <a:pt x="0" y="55"/>
                </a:lnTo>
                <a:lnTo>
                  <a:pt x="27" y="0"/>
                </a:lnTo>
                <a:lnTo>
                  <a:pt x="54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19720" y="3471840"/>
            <a:ext cx="87480" cy="85680"/>
          </a:xfrm>
          <a:custGeom>
            <a:avLst/>
            <a:gdLst/>
            <a:ahLst/>
            <a:rect l="l" t="t" r="r" b="b"/>
            <a:pathLst>
              <a:path w="55" h="54">
                <a:moveTo>
                  <a:pt x="55" y="54"/>
                </a:moveTo>
                <a:lnTo>
                  <a:pt x="0" y="54"/>
                </a:lnTo>
                <a:lnTo>
                  <a:pt x="27" y="0"/>
                </a:lnTo>
                <a:lnTo>
                  <a:pt x="55" y="5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10320" y="4611600"/>
            <a:ext cx="87120" cy="85680"/>
          </a:xfrm>
          <a:custGeom>
            <a:avLst/>
            <a:gdLst/>
            <a:ahLst/>
            <a:rect l="l" t="t" r="r" b="b"/>
            <a:pathLst>
              <a:path w="55" h="54">
                <a:moveTo>
                  <a:pt x="55" y="54"/>
                </a:moveTo>
                <a:lnTo>
                  <a:pt x="0" y="54"/>
                </a:lnTo>
                <a:lnTo>
                  <a:pt x="27" y="0"/>
                </a:lnTo>
                <a:lnTo>
                  <a:pt x="55" y="5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97520" y="386064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8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53080" y="4206960"/>
            <a:ext cx="85680" cy="87120"/>
          </a:xfrm>
          <a:custGeom>
            <a:avLst/>
            <a:gdLst/>
            <a:ahLst/>
            <a:rect l="l" t="t" r="r" b="b"/>
            <a:pathLst>
              <a:path w="54" h="55">
                <a:moveTo>
                  <a:pt x="54" y="55"/>
                </a:moveTo>
                <a:lnTo>
                  <a:pt x="0" y="55"/>
                </a:lnTo>
                <a:lnTo>
                  <a:pt x="27" y="0"/>
                </a:lnTo>
                <a:lnTo>
                  <a:pt x="54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27840" y="423540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8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85000" y="3817800"/>
            <a:ext cx="87120" cy="86040"/>
          </a:xfrm>
          <a:custGeom>
            <a:avLst/>
            <a:gdLst/>
            <a:ahLst/>
            <a:rect l="l" t="t" r="r" b="b"/>
            <a:pathLst>
              <a:path w="55" h="54">
                <a:moveTo>
                  <a:pt x="55" y="54"/>
                </a:moveTo>
                <a:lnTo>
                  <a:pt x="0" y="54"/>
                </a:lnTo>
                <a:lnTo>
                  <a:pt x="27" y="0"/>
                </a:lnTo>
                <a:lnTo>
                  <a:pt x="55" y="5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259680" y="344160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7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89200" y="355752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0" y="0"/>
                </a:moveTo>
                <a:lnTo>
                  <a:pt x="55" y="55"/>
                </a:lnTo>
                <a:lnTo>
                  <a:pt x="0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689200" y="355752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0" y="0"/>
                </a:moveTo>
                <a:lnTo>
                  <a:pt x="55" y="0"/>
                </a:lnTo>
                <a:lnTo>
                  <a:pt x="55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03720" y="321156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0"/>
                </a:moveTo>
                <a:lnTo>
                  <a:pt x="54" y="54"/>
                </a:lnTo>
                <a:lnTo>
                  <a:pt x="0" y="54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03720" y="321156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0"/>
                </a:moveTo>
                <a:lnTo>
                  <a:pt x="54" y="0"/>
                </a:lnTo>
                <a:lnTo>
                  <a:pt x="54" y="54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98600" y="371628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0" y="0"/>
                </a:moveTo>
                <a:lnTo>
                  <a:pt x="55" y="55"/>
                </a:lnTo>
                <a:lnTo>
                  <a:pt x="0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98600" y="371628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0" y="0"/>
                </a:moveTo>
                <a:lnTo>
                  <a:pt x="55" y="0"/>
                </a:lnTo>
                <a:lnTo>
                  <a:pt x="55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79800" y="3457440"/>
            <a:ext cx="87120" cy="8604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0"/>
                </a:moveTo>
                <a:lnTo>
                  <a:pt x="55" y="54"/>
                </a:lnTo>
                <a:lnTo>
                  <a:pt x="0" y="54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79800" y="3457440"/>
            <a:ext cx="87120" cy="8604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0"/>
                </a:moveTo>
                <a:lnTo>
                  <a:pt x="55" y="0"/>
                </a:lnTo>
                <a:lnTo>
                  <a:pt x="55" y="54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49800" y="401940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0" y="0"/>
                </a:moveTo>
                <a:lnTo>
                  <a:pt x="55" y="55"/>
                </a:lnTo>
                <a:lnTo>
                  <a:pt x="0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49800" y="401940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0" y="0"/>
                </a:moveTo>
                <a:lnTo>
                  <a:pt x="55" y="0"/>
                </a:lnTo>
                <a:lnTo>
                  <a:pt x="55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35440" y="3846600"/>
            <a:ext cx="8712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0" y="0"/>
                </a:moveTo>
                <a:lnTo>
                  <a:pt x="55" y="55"/>
                </a:lnTo>
                <a:lnTo>
                  <a:pt x="0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35440" y="3846600"/>
            <a:ext cx="8712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0" y="0"/>
                </a:moveTo>
                <a:lnTo>
                  <a:pt x="55" y="0"/>
                </a:lnTo>
                <a:lnTo>
                  <a:pt x="55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41720" y="5318280"/>
            <a:ext cx="41194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241720" y="1955880"/>
            <a:ext cx="1440" cy="3362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083200" y="270684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 - m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213160" y="377496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- 3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10400" y="33703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- 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2057400"/>
            <a:ext cx="213372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57400" y="2514600"/>
            <a:ext cx="327672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A42-A2F3-4FE2-8807-A8A2633B7F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315200" cy="59436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i+semi voltine taxa grou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3429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705720" y="3505320"/>
            <a:ext cx="2209680" cy="265428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1:  longer LPD, runoff duration, and decreased Q2:Q10, LPC, HPR, Power, FC, &amp; rever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8120" y="2819520"/>
            <a:ext cx="266688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752480" y="2209680"/>
            <a:ext cx="1905120" cy="3733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E7A-A1CC-4415-B2CF-433BD28D03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80880" y="196920"/>
            <a:ext cx="8328240" cy="66610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6629400" y="2971800"/>
            <a:ext cx="213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unc1:  increased LPD, later onset fall flows and later date annual min, &amp; lower Q2:Q10, fewer LPC and fewer rever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CF1-36B0-49F1-8D38-D62255A7C2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1600200" y="1219320"/>
          <a:ext cx="594360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59436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of High Pulse Period vs. BIBI Grou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693-7D30-4934-BFEA-78B31808DB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ject Go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alytical and decision tools for manag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derstand relationship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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logical con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valuate effe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ment acti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ow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D19-50E0-456E-A154-82630C43EA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1600200" y="1295280"/>
          <a:ext cx="5943600" cy="476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95280"/>
                    <a:ext cx="5943600" cy="47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ime (in days) Between Low Pulse Events vs. BIBI Grou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5A10-73A1-4A67-A97D-81F40508CE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1600200" y="1371600"/>
          <a:ext cx="594360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594360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umber of Low Pulse Events/Yr vs. BIBI Grou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D73-64A2-49CC-9055-6C2B49C2C9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752480" y="2095560"/>
          <a:ext cx="594360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95560"/>
                    <a:ext cx="59436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tio of current 2-yr discharge to historic 10-yr discharge vs. BIBI grou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CE8-407C-4969-B991-575861CF2F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tential Hydrology Indica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am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2:Q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/HP counts, duration, 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set fall f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 time above 2-yr base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inimum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off event cou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off event d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rs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BAD9-26AD-48EA-86AA-46121EE61A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546B-1AB4-46D3-A5B1-1708B7D6D8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ationships between biology and hydrology  metr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st’ and ‘best’ biological sites can be separated based on hydrology me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history and richness metrics significantly correlated with specific hydrology me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s of hydrologic ‘disturbance’ and biological resistance/resilience to disturbance may be most produ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21B-940C-45A3-81D9-7F88DE3CDB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ument analyses/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e relationships with separate data set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relationships with other biological data (e.g., fis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ize findings for managers – what general guidance can be derived from preliminary analys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119-60E2-4FCD-B5C4-95A779AFB5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946080"/>
            <a:ext cx="1904760" cy="939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man 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3429000"/>
            <a:ext cx="2082960" cy="109224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Flo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eg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587600"/>
            <a:ext cx="2171880" cy="114300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bitat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92760" y="3390840"/>
            <a:ext cx="2273400" cy="118116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B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e.g., salmon conser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33480" y="4813200"/>
            <a:ext cx="1942920" cy="43200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Wa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Qua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27200" y="4411800"/>
            <a:ext cx="4407120" cy="699840"/>
          </a:xfrm>
          <a:custGeom>
            <a:avLst/>
            <a:gdLst/>
            <a:ahLst/>
            <a:rect l="l" t="t" r="r" b="b"/>
            <a:pathLst>
              <a:path w="6940" h="1103">
                <a:moveTo>
                  <a:pt x="0" y="260"/>
                </a:moveTo>
                <a:cubicBezTo>
                  <a:pt x="550" y="393"/>
                  <a:pt x="2143" y="1103"/>
                  <a:pt x="3300" y="1060"/>
                </a:cubicBezTo>
                <a:cubicBezTo>
                  <a:pt x="4457" y="1017"/>
                  <a:pt x="6182" y="221"/>
                  <a:pt x="6940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29480" y="2151000"/>
            <a:ext cx="1904760" cy="1143000"/>
          </a:xfrm>
          <a:custGeom>
            <a:avLst/>
            <a:gdLst/>
            <a:ahLst/>
            <a:rect l="l" t="t" r="r" b="b"/>
            <a:pathLst>
              <a:path w="3000" h="1800">
                <a:moveTo>
                  <a:pt x="3000" y="1800"/>
                </a:moveTo>
                <a:cubicBezTo>
                  <a:pt x="2863" y="1567"/>
                  <a:pt x="2680" y="680"/>
                  <a:pt x="2180" y="380"/>
                </a:cubicBezTo>
                <a:cubicBezTo>
                  <a:pt x="1680" y="80"/>
                  <a:pt x="454" y="79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41400" y="2070000"/>
            <a:ext cx="1663920" cy="1236600"/>
          </a:xfrm>
          <a:custGeom>
            <a:avLst/>
            <a:gdLst/>
            <a:ahLst/>
            <a:rect l="l" t="t" r="r" b="b"/>
            <a:pathLst>
              <a:path w="2620" h="1947">
                <a:moveTo>
                  <a:pt x="0" y="1947"/>
                </a:moveTo>
                <a:cubicBezTo>
                  <a:pt x="137" y="1674"/>
                  <a:pt x="383" y="614"/>
                  <a:pt x="820" y="307"/>
                </a:cubicBezTo>
                <a:cubicBezTo>
                  <a:pt x="1257" y="0"/>
                  <a:pt x="2245" y="149"/>
                  <a:pt x="2620" y="10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9280" y="1986120"/>
            <a:ext cx="296640" cy="1562040"/>
          </a:xfrm>
          <a:custGeom>
            <a:avLst/>
            <a:gdLst/>
            <a:ahLst/>
            <a:rect l="l" t="t" r="r" b="b"/>
            <a:pathLst>
              <a:path w="467" h="2460">
                <a:moveTo>
                  <a:pt x="427" y="0"/>
                </a:moveTo>
                <a:cubicBezTo>
                  <a:pt x="357" y="227"/>
                  <a:pt x="0" y="950"/>
                  <a:pt x="7" y="1360"/>
                </a:cubicBezTo>
                <a:cubicBezTo>
                  <a:pt x="14" y="1770"/>
                  <a:pt x="371" y="2231"/>
                  <a:pt x="467" y="246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0080" y="4716360"/>
            <a:ext cx="4451400" cy="1135080"/>
          </a:xfrm>
          <a:custGeom>
            <a:avLst/>
            <a:gdLst/>
            <a:ahLst/>
            <a:rect l="l" t="t" r="r" b="b"/>
            <a:pathLst>
              <a:path w="7010" h="1787">
                <a:moveTo>
                  <a:pt x="0" y="1500"/>
                </a:moveTo>
                <a:cubicBezTo>
                  <a:pt x="667" y="1542"/>
                  <a:pt x="2933" y="1787"/>
                  <a:pt x="4000" y="1750"/>
                </a:cubicBezTo>
                <a:cubicBezTo>
                  <a:pt x="5067" y="1713"/>
                  <a:pt x="5898" y="1572"/>
                  <a:pt x="6400" y="1280"/>
                </a:cubicBezTo>
                <a:cubicBezTo>
                  <a:pt x="6900" y="840"/>
                  <a:pt x="6883" y="267"/>
                  <a:pt x="7010" y="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2000" y="1116000"/>
            <a:ext cx="1765080" cy="438120"/>
          </a:xfrm>
          <a:custGeom>
            <a:avLst/>
            <a:gdLst/>
            <a:ahLst/>
            <a:rect l="l" t="t" r="r" b="b"/>
            <a:pathLst>
              <a:path w="2780" h="690">
                <a:moveTo>
                  <a:pt x="0" y="150"/>
                </a:moveTo>
                <a:cubicBezTo>
                  <a:pt x="698" y="75"/>
                  <a:pt x="1397" y="0"/>
                  <a:pt x="1860" y="90"/>
                </a:cubicBezTo>
                <a:cubicBezTo>
                  <a:pt x="2323" y="180"/>
                  <a:pt x="2551" y="435"/>
                  <a:pt x="2780" y="69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6680" y="2011320"/>
            <a:ext cx="912960" cy="3645000"/>
          </a:xfrm>
          <a:custGeom>
            <a:avLst/>
            <a:gdLst/>
            <a:ahLst/>
            <a:rect l="l" t="t" r="r" b="b"/>
            <a:pathLst>
              <a:path w="1437" h="5740">
                <a:moveTo>
                  <a:pt x="857" y="0"/>
                </a:moveTo>
                <a:cubicBezTo>
                  <a:pt x="730" y="727"/>
                  <a:pt x="0" y="3403"/>
                  <a:pt x="97" y="4360"/>
                </a:cubicBezTo>
                <a:cubicBezTo>
                  <a:pt x="194" y="5317"/>
                  <a:pt x="1158" y="5453"/>
                  <a:pt x="1437" y="574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70400" y="792000"/>
            <a:ext cx="3606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ows indicate relationships that are important to the technical questions at hand.  The weight of the arrows indicates the degree of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is project’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focus on the indicated relationship – not their overall importance or the merit of studying them in a different pro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3166920"/>
            <a:ext cx="1016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57680" y="3408480"/>
            <a:ext cx="10159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3657600"/>
            <a:ext cx="1015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11480" y="3941640"/>
            <a:ext cx="1015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sona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8440" y="4297320"/>
            <a:ext cx="13586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e of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362320" y="3382920"/>
            <a:ext cx="152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92440" y="3585960"/>
            <a:ext cx="2160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19520" y="3809520"/>
            <a:ext cx="431640" cy="1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06560" y="4068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54280" y="4259160"/>
            <a:ext cx="3175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5410080"/>
            <a:ext cx="2057400" cy="60984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Biological Intera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6095880"/>
            <a:ext cx="1942920" cy="43200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Energ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Flo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9200" y="2989440"/>
            <a:ext cx="501840" cy="1993680"/>
          </a:xfrm>
          <a:custGeom>
            <a:avLst/>
            <a:gdLst/>
            <a:ahLst/>
            <a:rect l="l" t="t" r="r" b="b"/>
            <a:pathLst>
              <a:path w="790" h="3140">
                <a:moveTo>
                  <a:pt x="250" y="0"/>
                </a:moveTo>
                <a:cubicBezTo>
                  <a:pt x="223" y="390"/>
                  <a:pt x="0" y="1817"/>
                  <a:pt x="90" y="2340"/>
                </a:cubicBezTo>
                <a:cubicBezTo>
                  <a:pt x="180" y="2863"/>
                  <a:pt x="644" y="2973"/>
                  <a:pt x="790" y="314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60" y="3662280"/>
            <a:ext cx="1485720" cy="2603520"/>
          </a:xfrm>
          <a:custGeom>
            <a:avLst/>
            <a:gdLst/>
            <a:ahLst/>
            <a:rect l="l" t="t" r="r" b="b"/>
            <a:pathLst>
              <a:path w="2340" h="4100">
                <a:moveTo>
                  <a:pt x="540" y="0"/>
                </a:moveTo>
                <a:cubicBezTo>
                  <a:pt x="483" y="333"/>
                  <a:pt x="240" y="1680"/>
                  <a:pt x="200" y="2000"/>
                </a:cubicBezTo>
                <a:cubicBezTo>
                  <a:pt x="160" y="2320"/>
                  <a:pt x="0" y="2790"/>
                  <a:pt x="660" y="3200"/>
                </a:cubicBezTo>
                <a:cubicBezTo>
                  <a:pt x="1320" y="3610"/>
                  <a:pt x="2163" y="4052"/>
                  <a:pt x="2340" y="410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84400" y="4919760"/>
            <a:ext cx="4737240" cy="461880"/>
          </a:xfrm>
          <a:custGeom>
            <a:avLst/>
            <a:gdLst/>
            <a:ahLst/>
            <a:rect l="l" t="t" r="r" b="b"/>
            <a:pathLst>
              <a:path w="7460" h="728">
                <a:moveTo>
                  <a:pt x="0" y="300"/>
                </a:moveTo>
                <a:cubicBezTo>
                  <a:pt x="905" y="368"/>
                  <a:pt x="4225" y="692"/>
                  <a:pt x="5430" y="710"/>
                </a:cubicBezTo>
                <a:cubicBezTo>
                  <a:pt x="6635" y="728"/>
                  <a:pt x="6892" y="528"/>
                  <a:pt x="7230" y="410"/>
                </a:cubicBezTo>
                <a:cubicBezTo>
                  <a:pt x="7460" y="210"/>
                  <a:pt x="7412" y="85"/>
                  <a:pt x="7460" y="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5122800"/>
            <a:ext cx="3975120" cy="1219320"/>
          </a:xfrm>
          <a:custGeom>
            <a:avLst/>
            <a:gdLst/>
            <a:ahLst/>
            <a:rect l="l" t="t" r="r" b="b"/>
            <a:pathLst>
              <a:path w="6260" h="1920">
                <a:moveTo>
                  <a:pt x="0" y="1920"/>
                </a:moveTo>
                <a:cubicBezTo>
                  <a:pt x="653" y="1887"/>
                  <a:pt x="2992" y="1840"/>
                  <a:pt x="3920" y="1720"/>
                </a:cubicBezTo>
                <a:cubicBezTo>
                  <a:pt x="4803" y="1640"/>
                  <a:pt x="5180" y="1487"/>
                  <a:pt x="5570" y="1200"/>
                </a:cubicBezTo>
                <a:cubicBezTo>
                  <a:pt x="5960" y="913"/>
                  <a:pt x="6116" y="250"/>
                  <a:pt x="6260" y="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360" y="304920"/>
            <a:ext cx="86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ssues/Challenges - Sci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726-B490-478B-BE11-09C1ED37E0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veral Possible Approaches…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dicator-based approa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 inform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eptual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1752480"/>
            <a:ext cx="3809880" cy="762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3276720"/>
            <a:ext cx="3657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23080" y="3581280"/>
            <a:ext cx="357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Metrics to Describ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4724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410080"/>
            <a:ext cx="3352680" cy="1067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5638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 Met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2666880"/>
            <a:ext cx="1778040" cy="3276720"/>
          </a:xfrm>
          <a:custGeom>
            <a:avLst/>
            <a:gdLst/>
            <a:ahLst/>
            <a:rect l="l" t="t" r="r" b="b"/>
            <a:pathLst>
              <a:path w="1120" h="2064">
                <a:moveTo>
                  <a:pt x="0" y="2064"/>
                </a:moveTo>
                <a:cubicBezTo>
                  <a:pt x="400" y="2040"/>
                  <a:pt x="800" y="2016"/>
                  <a:pt x="960" y="1776"/>
                </a:cubicBezTo>
                <a:cubicBezTo>
                  <a:pt x="1120" y="1536"/>
                  <a:pt x="1112" y="920"/>
                  <a:pt x="960" y="624"/>
                </a:cubicBezTo>
                <a:cubicBezTo>
                  <a:pt x="808" y="328"/>
                  <a:pt x="200" y="104"/>
                  <a:pt x="4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781680" y="2590560"/>
            <a:ext cx="1526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220968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1520" y="3546360"/>
            <a:ext cx="177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2743200" y="5486040"/>
            <a:ext cx="380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057400" y="251460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AE5C-7167-49E7-B738-7A350AE28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0360" y="115200"/>
            <a:ext cx="8742960" cy="5333040"/>
            <a:chOff x="90360" y="115200"/>
            <a:chExt cx="8742960" cy="5333040"/>
          </a:xfrm>
        </p:grpSpPr>
        <p:sp>
          <p:nvSpPr>
            <p:cNvPr id="99" name=""/>
            <p:cNvSpPr/>
            <p:nvPr/>
          </p:nvSpPr>
          <p:spPr>
            <a:xfrm>
              <a:off x="2057400" y="1714680"/>
              <a:ext cx="0" cy="373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25240" y="5448240"/>
              <a:ext cx="4241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26040" y="2447640"/>
              <a:ext cx="3872880" cy="253368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360" y="2247840"/>
              <a:ext cx="4671360" cy="31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0783200">
              <a:off x="4770000" y="2376000"/>
              <a:ext cx="4056480" cy="279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0800000">
              <a:off x="2426040" y="115200"/>
              <a:ext cx="5286240" cy="519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5448240"/>
              <a:ext cx="1290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9880" y="5315040"/>
              <a:ext cx="12909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rot="16187400">
            <a:off x="-455760" y="2895120"/>
            <a:ext cx="3413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logy Metr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recept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2149200">
            <a:off x="3496320" y="2858400"/>
            <a:ext cx="43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cator Respon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4280" y="5562720"/>
            <a:ext cx="4089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ydrology Metr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tress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ric Relationshi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nking Biology and Hydrolog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Watersheds with both data typ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Urbanization gradien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Pair biology and hydrology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ubbasins “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Distinct hydrology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One or more BIBI site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mall data se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5A1-D1A0-4E5B-8B57-C4938FD839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vailable Data:  Hydrolog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Few long term gauge record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Modeled flow data (HSPF) available for some watershed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Developed flow for 50 years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imes New Roman"/>
              </a:rPr>
              <a:t>Original forested land cover  - Basel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imes New Roman"/>
              </a:rPr>
              <a:t>Current land cover (1995/1998)  -  Scenari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Computed metrics for both condition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imes New Roman"/>
              </a:rPr>
              <a:t>M, D, F, T, rates of chan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1B8-26F6-46A1-A3D9-5D724CEC89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vailable Data: Biolog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Macroinvertebrate data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w data for Benthic Index of Biotic Integrity (BIB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BI - general indicator of ecosystem integ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designed to assess effects of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ly “calibrated” for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nd 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rder str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 long term records (1995-2001 longest perio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sted BIBI metrics plus other life history/richness me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689-C36E-4BC8-8335-9EB694DC34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LB" descr=""/>
          <p:cNvPicPr/>
          <p:nvPr/>
        </p:nvPicPr>
        <p:blipFill>
          <a:blip r:embed="rId1"/>
          <a:stretch/>
        </p:blipFill>
        <p:spPr>
          <a:xfrm>
            <a:off x="774720" y="762120"/>
            <a:ext cx="3492360" cy="5487840"/>
          </a:xfrm>
          <a:prstGeom prst="rect">
            <a:avLst/>
          </a:prstGeom>
          <a:ln w="0">
            <a:noFill/>
          </a:ln>
        </p:spPr>
      </p:pic>
      <p:pic>
        <p:nvPicPr>
          <p:cNvPr id="118" name="lbpoi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4241880" cy="548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2CE-748A-429C-A6E7-78E1501AF1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21:26:51Z</dcterms:created>
  <dc:creator>Jan Cassin</dc:creator>
  <dc:description/>
  <dc:language>en-US</dc:language>
  <cp:lastModifiedBy>Jan Cassin</cp:lastModifiedBy>
  <dcterms:modified xsi:type="dcterms:W3CDTF">2004-11-19T00:58:21Z</dcterms:modified>
  <cp:revision>41</cp:revision>
  <dc:subject/>
  <dc:title>PowerPoint Presentation</dc:title>
</cp:coreProperties>
</file>