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E9E8A0-1DED-4531-BAD4-74AFAC1D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 basins, number of POI’s with biological data – pairing of hydr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biological sample points; number sample points with &gt;500 total organisms (I.e., points we can use with most confid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weak relationships we found; lots of scatter; r= -0.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relationship between high pulse county and Plecoptera taxa rich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#’s of high pulses are indicative of more flashy, stormflow dominated urban flow reg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#’s of high pulses (esp. in relation to ‘natural’ regime) represents an increase in frequency of disturbance…..decrease in species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ogic metrics most frequently correlated with biology: HP, LP counts, rise/fall counts, rise/fall rates; HP, LP duration; timing of HP, LP events (start and end dates)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nd poor biological groups are clearly distinguished; some overlap between good and fair biologica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that distinguish groups best are:  HP duration; LP start date; LP duration (LP, HP durations are much shorter under urbanization as flashiness increases; LP, HP periods also start earlier and last longer under urbanization (I.e., periods of time when flows are typically more stable under natural conditions experience multiple high and low pulses under urbanization); biological groupings correspond to these dif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; get different factors distinguishing groups if using scenario vs. ratios and annual vs. seasonal – more work to do here to flesh out key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We Trying to Accomplis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based; ecosystem based (vs. single-species or single flow ‘problem’ focu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actical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short and longer-term measures of effects – immediate warning signals; long term bench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de managers with decision end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minate/inform management options, policy/regulations, to CIP to rest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vant to sal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33480" y="4409640"/>
            <a:ext cx="5130720" cy="417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interacting stressor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rb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s – hard to tease apart effects of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tial variability in stressors within and across watersh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ck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data/information – no long term biological studies; few long-term hydrological records; very little instream habita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of data sets that are spatially or temporally limited; were designed for limited, specific purpose; very little consistent monitoring or region-wide data 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 science based conceptual model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 potential biological and physical (mostly hydrology) metrics that describe condition; hopefully related to mechanism but not necessar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empirical relationships to characterize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levels of acceptable biological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o management 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 is specu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separate contributions of confounded effects; if conditions change, don’t know if discovered  relationships will 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Find watersheds with both data typ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Across an Urbanization gradient (hope also hydro and bio gradie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Pair biology and hydrolo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reate subbasins with Distinct hydrology but that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inimize the number of BIBI sites within subbasin (usually have one, but in some cases, more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Because of limited data started off in two watersheds with hydrologic models and BIBI, instream habitat, and land cover 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Later expanded grad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lvl="2" marL="914400" indent="0">
              <a:spcBef>
                <a:spcPts val="6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Rain on a watersh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Water flows over land use typ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63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Calibrated to local gauge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65320" y="684360"/>
            <a:ext cx="4667040" cy="3500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33480" y="4413240"/>
            <a:ext cx="5130720" cy="418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Macroinvertebrate dat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ccff"/>
                </a:solidFill>
                <a:latin typeface="Times New Roman"/>
              </a:rPr>
              <a:t>collected for Benthic Index of Biotic Integ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ccff"/>
                </a:solidFill>
                <a:latin typeface="Times New Roman"/>
              </a:rPr>
              <a:t>Sampling designs and methods developed to assess combined effects of urbanization, not specific effects of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61E-CEF0-49AC-9C96-6CDECE06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A12D-83CB-41A1-9D8E-48E51035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2A7-0C24-45DA-9814-2834AF68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4E6-EE11-41A5-A62F-91A6FDCA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AA55-D804-4D01-AB3C-4E465F77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30BA-0C0D-4FAF-B86A-1AD43CB6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C593-611A-4D3F-AC56-B4BC0FAF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611-34A0-461D-8B40-76AEF3F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8405-80D2-479F-A736-1E932944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FD4-37DB-429F-AC60-58A206C5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B546-69DC-4D24-8EC7-67EDE63C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8425-5E81-4262-837C-2F2B3AB0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A721-C1BF-4307-B537-05AA6444C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rmative Flow Stud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 Streams Biology-Hydrology Analy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2888-080F-4A20-AF04-41B20DC43E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king Biological Data S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aquah (8/35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ar/Evans (19/63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Bear (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wamp (7/12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sen (2/6;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ller (1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rnton (5/15/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ple size = 1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B84-889A-44E9-B587-70E332BA87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839080" cy="534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xample Hydrograp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0200-351E-4262-968B-D8BED1EAA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1905120"/>
          <a:ext cx="45720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4572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648320" y="1905120"/>
          <a:ext cx="4267080" cy="4117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267080" cy="41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838080" y="1371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n-urbanized Water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1371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rbanized Waters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5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rested Rise Count vs. Current Rise 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EAB0-74E0-43DF-990F-C43E3BC41C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670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883560" cy="55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216-97ED-4E40-96ED-6C7BF803E5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8670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685800"/>
            <a:ext cx="6883560" cy="55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A3B-F11D-4818-93E5-427CC3002D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IBI Score vs. Q2:Q10 in sites with similar local land cover (within 100m of BIBI site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52480" y="2287440"/>
          <a:ext cx="5713560" cy="457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87440"/>
                    <a:ext cx="5713560" cy="45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20C-C617-48A0-AC3E-BF6CA5551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2876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685800"/>
            <a:ext cx="6923160" cy="5527800"/>
            <a:chOff x="1143000" y="685800"/>
            <a:chExt cx="6923160" cy="5527800"/>
          </a:xfrm>
        </p:grpSpPr>
        <p:sp>
          <p:nvSpPr>
            <p:cNvPr id="140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4361" y="3482"/>
                  </a:moveTo>
                  <a:lnTo>
                    <a:pt x="0" y="0"/>
                  </a:lnTo>
                  <a:lnTo>
                    <a:pt x="0" y="3482"/>
                  </a:lnTo>
                  <a:lnTo>
                    <a:pt x="4361" y="3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0" y="0"/>
                  </a:moveTo>
                  <a:lnTo>
                    <a:pt x="4361" y="0"/>
                  </a:lnTo>
                  <a:lnTo>
                    <a:pt x="4361" y="3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4361" y="3482"/>
                  </a:moveTo>
                  <a:lnTo>
                    <a:pt x="0" y="0"/>
                  </a:lnTo>
                  <a:lnTo>
                    <a:pt x="0" y="3482"/>
                  </a:lnTo>
                  <a:lnTo>
                    <a:pt x="4361" y="3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43000" y="685800"/>
              <a:ext cx="6923160" cy="5527800"/>
            </a:xfrm>
            <a:custGeom>
              <a:avLst/>
              <a:gdLst/>
              <a:ahLst/>
              <a:rect l="l" t="t" r="r" b="b"/>
              <a:pathLst>
                <a:path w="4361" h="3482">
                  <a:moveTo>
                    <a:pt x="0" y="0"/>
                  </a:moveTo>
                  <a:lnTo>
                    <a:pt x="4361" y="0"/>
                  </a:lnTo>
                  <a:lnTo>
                    <a:pt x="4361" y="34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16880" y="873000"/>
              <a:ext cx="4348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Canonical Discriminant Functions</a:t>
              </a:r>
              <a:endParaRPr b="0" lang="en-US" sz="2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58800" y="1481040"/>
              <a:ext cx="462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Annual Ratio Hydrology Metrics normalized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9640" y="585324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9680" y="5362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57480" y="5362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65640" y="53625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453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75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753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8316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89520" y="536256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122480" y="3467880"/>
              <a:ext cx="94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unction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53720" y="184140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3720" y="23893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53720" y="2952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53720" y="35146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6840" y="407844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1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96840" y="464040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2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6840" y="511668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3.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62800" y="399096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62800" y="399096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0"/>
                  </a:lnTo>
                  <a:lnTo>
                    <a:pt x="55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64320" y="439416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19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49920" y="437976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49920" y="437976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35880" y="4365720"/>
              <a:ext cx="1404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35880" y="436572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05640" y="43657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05640" y="43657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76840" y="436572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6840" y="436572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62800" y="436572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562800" y="4379760"/>
              <a:ext cx="14040" cy="10188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48400" y="437976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48400" y="439416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48400" y="439416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62800" y="475632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5" y="54"/>
                  </a:moveTo>
                  <a:lnTo>
                    <a:pt x="0" y="54"/>
                  </a:lnTo>
                  <a:lnTo>
                    <a:pt x="27" y="0"/>
                  </a:lnTo>
                  <a:lnTo>
                    <a:pt x="55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62800" y="5159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62800" y="5159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0"/>
                  </a:lnTo>
                  <a:lnTo>
                    <a:pt x="55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08440" y="3514680"/>
              <a:ext cx="959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IBI gro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69080" y="3948120"/>
              <a:ext cx="1207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roup Centroid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5280" y="4336920"/>
              <a:ext cx="640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5 - max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91400" y="4727520"/>
              <a:ext cx="5126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0 - 35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78440" y="5116680"/>
              <a:ext cx="595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in - 20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6120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6756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89400" y="5332320"/>
              <a:ext cx="180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9756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0536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11360" y="5332320"/>
              <a:ext cx="180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33560" y="5332320"/>
              <a:ext cx="180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41720" y="5332320"/>
              <a:ext cx="1440" cy="30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98520" y="195588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98520" y="2519280"/>
              <a:ext cx="43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8520" y="3081240"/>
              <a:ext cx="4320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98520" y="364500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98520" y="419256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98520" y="475632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8520" y="5318280"/>
              <a:ext cx="43200" cy="14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41720" y="1955880"/>
              <a:ext cx="4119480" cy="3362400"/>
            </a:xfrm>
            <a:custGeom>
              <a:avLst/>
              <a:gdLst/>
              <a:ahLst/>
              <a:rect l="l" t="t" r="r" b="b"/>
              <a:pathLst>
                <a:path w="2595" h="2118">
                  <a:moveTo>
                    <a:pt x="2595" y="2118"/>
                  </a:moveTo>
                  <a:lnTo>
                    <a:pt x="0" y="0"/>
                  </a:lnTo>
                  <a:lnTo>
                    <a:pt x="0" y="2118"/>
                  </a:lnTo>
                  <a:lnTo>
                    <a:pt x="2595" y="2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41720" y="1955880"/>
              <a:ext cx="4119480" cy="3362400"/>
            </a:xfrm>
            <a:custGeom>
              <a:avLst/>
              <a:gdLst/>
              <a:ahLst/>
              <a:rect l="l" t="t" r="r" b="b"/>
              <a:pathLst>
                <a:path w="2595" h="2118">
                  <a:moveTo>
                    <a:pt x="0" y="0"/>
                  </a:moveTo>
                  <a:lnTo>
                    <a:pt x="2595" y="0"/>
                  </a:lnTo>
                  <a:lnTo>
                    <a:pt x="2595" y="2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41720" y="1955880"/>
              <a:ext cx="4119480" cy="336240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07200" y="2965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0"/>
                  </a:moveTo>
                  <a:lnTo>
                    <a:pt x="54" y="5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07200" y="296532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0"/>
                  </a:moveTo>
                  <a:lnTo>
                    <a:pt x="54" y="0"/>
                  </a:lnTo>
                  <a:lnTo>
                    <a:pt x="54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50040" y="4033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50040" y="4033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55" y="0"/>
                  </a:lnTo>
                  <a:lnTo>
                    <a:pt x="55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97320" y="36306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97320" y="3630600"/>
              <a:ext cx="87120" cy="8568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0"/>
                  </a:moveTo>
                  <a:lnTo>
                    <a:pt x="55" y="0"/>
                  </a:lnTo>
                  <a:lnTo>
                    <a:pt x="55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22760" y="285120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06920" y="2836800"/>
              <a:ext cx="15840" cy="7164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10" y="45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06920" y="2836800"/>
              <a:ext cx="15840" cy="856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92880" y="2820960"/>
              <a:ext cx="1404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92880" y="282096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64080" y="28209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64080" y="28209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5640" y="28209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5640" y="28209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21240" y="28209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21240" y="2836800"/>
              <a:ext cx="1440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7200" y="283680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07200" y="2851200"/>
              <a:ext cx="1404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07200" y="285120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3080" y="2460600"/>
              <a:ext cx="144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18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37240" y="244620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46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37240" y="244620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10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22840" y="243216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22840" y="243216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94400" y="24321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94400" y="243216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5600" y="24321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65600" y="243216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51560" y="243216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551560" y="2446200"/>
              <a:ext cx="14040" cy="10188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37160" y="244620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7160" y="246060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246060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0"/>
                  </a:moveTo>
                  <a:lnTo>
                    <a:pt x="0" y="18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37160" y="224460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22760" y="223056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22760" y="223056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06920" y="2216160"/>
              <a:ext cx="15840" cy="10008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10" y="63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06920" y="2216160"/>
              <a:ext cx="15840" cy="114120"/>
            </a:xfrm>
            <a:custGeom>
              <a:avLst/>
              <a:gdLst/>
              <a:ahLst/>
              <a:rect l="l" t="t" r="r" b="b"/>
              <a:pathLst>
                <a:path w="10" h="72">
                  <a:moveTo>
                    <a:pt x="10" y="63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7848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7848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5004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50040" y="2216160"/>
              <a:ext cx="2844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35640" y="2216160"/>
              <a:ext cx="14400" cy="1141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72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35640" y="2230560"/>
              <a:ext cx="14400" cy="9972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21240" y="223056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21240" y="224460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21240" y="224460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22760" y="2548080"/>
              <a:ext cx="180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06920" y="2533680"/>
              <a:ext cx="15840" cy="71280"/>
            </a:xfrm>
            <a:custGeom>
              <a:avLst/>
              <a:gdLst/>
              <a:ahLst/>
              <a:rect l="l" t="t" r="r" b="b"/>
              <a:pathLst>
                <a:path w="10" h="45">
                  <a:moveTo>
                    <a:pt x="10" y="45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06920" y="2533680"/>
              <a:ext cx="15840" cy="856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0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92880" y="2519280"/>
              <a:ext cx="1404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92880" y="2519280"/>
              <a:ext cx="14040" cy="11448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63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64080" y="2519280"/>
              <a:ext cx="2880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64080" y="2519280"/>
              <a:ext cx="2880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35640" y="2519280"/>
              <a:ext cx="2844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35640" y="2519280"/>
              <a:ext cx="28440" cy="11448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421240" y="2519280"/>
              <a:ext cx="14400" cy="11448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72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1240" y="2533680"/>
              <a:ext cx="1440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07200" y="253368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07200" y="2548080"/>
              <a:ext cx="1404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07200" y="2548080"/>
              <a:ext cx="144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4080" y="237492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50040" y="2360520"/>
              <a:ext cx="1404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50040" y="236052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35640" y="234468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35640" y="234468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07200" y="23446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07200" y="23446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78400" y="23446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78400" y="23446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62560" y="2344680"/>
              <a:ext cx="15840" cy="115920"/>
            </a:xfrm>
            <a:custGeom>
              <a:avLst/>
              <a:gdLst/>
              <a:ahLst/>
              <a:rect l="l" t="t" r="r" b="b"/>
              <a:pathLst>
                <a:path w="10" h="73">
                  <a:moveTo>
                    <a:pt x="10" y="73"/>
                  </a:moveTo>
                  <a:lnTo>
                    <a:pt x="0" y="10"/>
                  </a:lnTo>
                  <a:lnTo>
                    <a:pt x="10" y="0"/>
                  </a:lnTo>
                  <a:lnTo>
                    <a:pt x="10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62560" y="2360520"/>
              <a:ext cx="15840" cy="100080"/>
            </a:xfrm>
            <a:custGeom>
              <a:avLst/>
              <a:gdLst/>
              <a:ahLst/>
              <a:rect l="l" t="t" r="r" b="b"/>
              <a:pathLst>
                <a:path w="10" h="63">
                  <a:moveTo>
                    <a:pt x="10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10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48160" y="236052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48160" y="237492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48160" y="237492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92800" y="23605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78400" y="2344680"/>
              <a:ext cx="1440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9" y="10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8400" y="234468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62560" y="2330280"/>
              <a:ext cx="15840" cy="10188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10" y="64"/>
                  </a:moveTo>
                  <a:lnTo>
                    <a:pt x="0" y="0"/>
                  </a:lnTo>
                  <a:lnTo>
                    <a:pt x="10" y="9"/>
                  </a:lnTo>
                  <a:lnTo>
                    <a:pt x="10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62560" y="2330280"/>
              <a:ext cx="15840" cy="115920"/>
            </a:xfrm>
            <a:custGeom>
              <a:avLst/>
              <a:gdLst/>
              <a:ahLst/>
              <a:rect l="l" t="t" r="r" b="b"/>
              <a:pathLst>
                <a:path w="10" h="73">
                  <a:moveTo>
                    <a:pt x="10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0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4120" y="23302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23302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05320" y="23302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05320" y="233028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91280" y="233028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91280" y="2344680"/>
              <a:ext cx="1404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76880" y="2344680"/>
              <a:ext cx="1440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55"/>
                  </a:moveTo>
                  <a:lnTo>
                    <a:pt x="0" y="10"/>
                  </a:lnTo>
                  <a:lnTo>
                    <a:pt x="9" y="0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880" y="236052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76880" y="2360520"/>
              <a:ext cx="144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622840" y="234468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19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608800" y="2330280"/>
              <a:ext cx="14040" cy="7308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9" y="46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08800" y="2330280"/>
              <a:ext cx="14040" cy="8748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9" y="46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94400" y="231624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4400" y="231624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4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65600" y="231624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65600" y="2316240"/>
              <a:ext cx="2880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37160" y="231624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37160" y="231624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522760" y="231624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22760" y="2330280"/>
              <a:ext cx="14400" cy="10188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5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06920" y="233028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10" y="55"/>
                  </a:moveTo>
                  <a:lnTo>
                    <a:pt x="0" y="9"/>
                  </a:lnTo>
                  <a:lnTo>
                    <a:pt x="10" y="0"/>
                  </a:lnTo>
                  <a:lnTo>
                    <a:pt x="10" y="5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06920" y="2344680"/>
              <a:ext cx="15840" cy="7308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46"/>
                  </a:moveTo>
                  <a:lnTo>
                    <a:pt x="0" y="0"/>
                  </a:lnTo>
                  <a:lnTo>
                    <a:pt x="0" y="37"/>
                  </a:lnTo>
                  <a:lnTo>
                    <a:pt x="10" y="4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06920" y="2344680"/>
              <a:ext cx="1800" cy="58680"/>
            </a:xfrm>
            <a:custGeom>
              <a:avLst/>
              <a:gdLst/>
              <a:ahLst/>
              <a:rect l="l" t="t" r="r" b="b"/>
              <a:pathLst>
                <a:path w="0" h="37">
                  <a:moveTo>
                    <a:pt x="0" y="0"/>
                  </a:moveTo>
                  <a:lnTo>
                    <a:pt x="0" y="19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95920" y="2749680"/>
              <a:ext cx="144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681520" y="273528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81520" y="273528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7480" y="2720880"/>
              <a:ext cx="1404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67480" y="2720880"/>
              <a:ext cx="1404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6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637240" y="272088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37240" y="272088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9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08800" y="27208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08800" y="2720880"/>
              <a:ext cx="28440" cy="115920"/>
            </a:xfrm>
            <a:custGeom>
              <a:avLst/>
              <a:gdLst/>
              <a:ahLst/>
              <a:rect l="l" t="t" r="r" b="b"/>
              <a:pathLst>
                <a:path w="18" h="73">
                  <a:moveTo>
                    <a:pt x="18" y="73"/>
                  </a:moveTo>
                  <a:lnTo>
                    <a:pt x="0" y="0"/>
                  </a:lnTo>
                  <a:lnTo>
                    <a:pt x="0" y="73"/>
                  </a:lnTo>
                  <a:lnTo>
                    <a:pt x="18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94400" y="2720880"/>
              <a:ext cx="14400" cy="115920"/>
            </a:xfrm>
            <a:custGeom>
              <a:avLst/>
              <a:gdLst/>
              <a:ahLst/>
              <a:rect l="l" t="t" r="r" b="b"/>
              <a:pathLst>
                <a:path w="9" h="73">
                  <a:moveTo>
                    <a:pt x="9" y="73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94400" y="2735280"/>
              <a:ext cx="14400" cy="101520"/>
            </a:xfrm>
            <a:custGeom>
              <a:avLst/>
              <a:gdLst/>
              <a:ahLst/>
              <a:rect l="l" t="t" r="r" b="b"/>
              <a:pathLst>
                <a:path w="9" h="64">
                  <a:moveTo>
                    <a:pt x="9" y="64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80000" y="273528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80000" y="274968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580000" y="2749680"/>
              <a:ext cx="180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80000" y="272088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65600" y="2706840"/>
              <a:ext cx="1440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5600" y="270684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1560" y="2692440"/>
              <a:ext cx="14040" cy="10008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51560" y="2692440"/>
              <a:ext cx="14040" cy="1141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63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522760" y="2692440"/>
              <a:ext cx="2880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522760" y="2692440"/>
              <a:ext cx="28800" cy="114120"/>
            </a:xfrm>
            <a:custGeom>
              <a:avLst/>
              <a:gdLst/>
              <a:ahLst/>
              <a:rect l="l" t="t" r="r" b="b"/>
              <a:pathLst>
                <a:path w="18" h="72">
                  <a:moveTo>
                    <a:pt x="18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8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2880" y="2692440"/>
              <a:ext cx="29880" cy="11412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9" y="72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92880" y="2692440"/>
              <a:ext cx="29880" cy="114120"/>
            </a:xfrm>
            <a:custGeom>
              <a:avLst/>
              <a:gdLst/>
              <a:ahLst/>
              <a:rect l="l" t="t" r="r" b="b"/>
              <a:pathLst>
                <a:path w="19" h="72">
                  <a:moveTo>
                    <a:pt x="19" y="72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1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78480" y="2692440"/>
              <a:ext cx="14400" cy="114120"/>
            </a:xfrm>
            <a:custGeom>
              <a:avLst/>
              <a:gdLst/>
              <a:ahLst/>
              <a:rect l="l" t="t" r="r" b="b"/>
              <a:pathLst>
                <a:path w="9" h="72">
                  <a:moveTo>
                    <a:pt x="9" y="72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78480" y="2706840"/>
              <a:ext cx="14400" cy="99720"/>
            </a:xfrm>
            <a:custGeom>
              <a:avLst/>
              <a:gdLst/>
              <a:ahLst/>
              <a:rect l="l" t="t" r="r" b="b"/>
              <a:pathLst>
                <a:path w="9" h="63">
                  <a:moveTo>
                    <a:pt x="9" y="63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64080" y="2706840"/>
              <a:ext cx="1440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54"/>
                  </a:moveTo>
                  <a:lnTo>
                    <a:pt x="0" y="9"/>
                  </a:lnTo>
                  <a:lnTo>
                    <a:pt x="9" y="0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64080" y="2720880"/>
              <a:ext cx="14400" cy="7164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64080" y="2720880"/>
              <a:ext cx="1800" cy="5724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0"/>
                  </a:moveTo>
                  <a:lnTo>
                    <a:pt x="0" y="18"/>
                  </a:lnTo>
                  <a:lnTo>
                    <a:pt x="0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06920" y="2389320"/>
              <a:ext cx="1800" cy="56880"/>
            </a:xfrm>
            <a:custGeom>
              <a:avLst/>
              <a:gdLst/>
              <a:ahLst/>
              <a:rect l="l" t="t" r="r" b="b"/>
              <a:pathLst>
                <a:path w="0" h="36">
                  <a:moveTo>
                    <a:pt x="0" y="18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92880" y="2374920"/>
              <a:ext cx="14040" cy="71280"/>
            </a:xfrm>
            <a:custGeom>
              <a:avLst/>
              <a:gdLst/>
              <a:ahLst/>
              <a:rect l="l" t="t" r="r" b="b"/>
              <a:pathLst>
                <a:path w="9" h="45">
                  <a:moveTo>
                    <a:pt x="9" y="45"/>
                  </a:moveTo>
                  <a:lnTo>
                    <a:pt x="0" y="0"/>
                  </a:lnTo>
                  <a:lnTo>
                    <a:pt x="9" y="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92880" y="2374920"/>
              <a:ext cx="14040" cy="85680"/>
            </a:xfrm>
            <a:custGeom>
              <a:avLst/>
              <a:gdLst/>
              <a:ahLst/>
              <a:rect l="l" t="t" r="r" b="b"/>
              <a:pathLst>
                <a:path w="9" h="54">
                  <a:moveTo>
                    <a:pt x="9" y="45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478480" y="236052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9" y="9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8480" y="2360520"/>
            <a:ext cx="1440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63"/>
                </a:moveTo>
                <a:lnTo>
                  <a:pt x="0" y="0"/>
                </a:lnTo>
                <a:lnTo>
                  <a:pt x="0" y="72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50040" y="236052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50040" y="236052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21240" y="236052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21240" y="236052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07200" y="2360520"/>
            <a:ext cx="1404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72"/>
                </a:moveTo>
                <a:lnTo>
                  <a:pt x="0" y="9"/>
                </a:lnTo>
                <a:lnTo>
                  <a:pt x="9" y="0"/>
                </a:lnTo>
                <a:lnTo>
                  <a:pt x="9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07200" y="2374920"/>
            <a:ext cx="1404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392800" y="237492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2800" y="238932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2800" y="2389320"/>
            <a:ext cx="1440" cy="5688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322880" y="4351320"/>
            <a:ext cx="144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18"/>
                </a:moveTo>
                <a:lnTo>
                  <a:pt x="0" y="0"/>
                </a:lnTo>
                <a:lnTo>
                  <a:pt x="0" y="37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308480" y="43369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46"/>
                </a:moveTo>
                <a:lnTo>
                  <a:pt x="0" y="0"/>
                </a:lnTo>
                <a:lnTo>
                  <a:pt x="9" y="9"/>
                </a:lnTo>
                <a:lnTo>
                  <a:pt x="9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08480" y="4336920"/>
            <a:ext cx="14400" cy="87480"/>
          </a:xfrm>
          <a:custGeom>
            <a:avLst/>
            <a:gdLst/>
            <a:ahLst/>
            <a:rect l="l" t="t" r="r" b="b"/>
            <a:pathLst>
              <a:path w="9" h="55">
                <a:moveTo>
                  <a:pt x="9" y="46"/>
                </a:moveTo>
                <a:lnTo>
                  <a:pt x="0" y="0"/>
                </a:lnTo>
                <a:lnTo>
                  <a:pt x="0" y="55"/>
                </a:lnTo>
                <a:lnTo>
                  <a:pt x="9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94080" y="4322880"/>
            <a:ext cx="14400" cy="10152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9" y="9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294080" y="432288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64"/>
                </a:moveTo>
                <a:lnTo>
                  <a:pt x="0" y="0"/>
                </a:lnTo>
                <a:lnTo>
                  <a:pt x="0" y="73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265640" y="432288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18" y="0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5640" y="432288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0" y="73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35400" y="4322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19" y="0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235400" y="432288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21000" y="432288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73"/>
                </a:moveTo>
                <a:lnTo>
                  <a:pt x="0" y="9"/>
                </a:lnTo>
                <a:lnTo>
                  <a:pt x="9" y="0"/>
                </a:lnTo>
                <a:lnTo>
                  <a:pt x="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221000" y="4336920"/>
            <a:ext cx="14400" cy="10188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0" y="55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6960" y="4336920"/>
            <a:ext cx="14040" cy="87480"/>
          </a:xfrm>
          <a:custGeom>
            <a:avLst/>
            <a:gdLst/>
            <a:ahLst/>
            <a:rect l="l" t="t" r="r" b="b"/>
            <a:pathLst>
              <a:path w="9" h="55">
                <a:moveTo>
                  <a:pt x="9" y="55"/>
                </a:moveTo>
                <a:lnTo>
                  <a:pt x="0" y="9"/>
                </a:lnTo>
                <a:lnTo>
                  <a:pt x="9" y="0"/>
                </a:lnTo>
                <a:lnTo>
                  <a:pt x="9" y="5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06960" y="4351320"/>
            <a:ext cx="1404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46"/>
                </a:moveTo>
                <a:lnTo>
                  <a:pt x="0" y="0"/>
                </a:lnTo>
                <a:lnTo>
                  <a:pt x="0" y="37"/>
                </a:lnTo>
                <a:lnTo>
                  <a:pt x="9" y="4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206960" y="4351320"/>
            <a:ext cx="144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18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19720" y="3630600"/>
            <a:ext cx="144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05320" y="3616200"/>
            <a:ext cx="14400" cy="7164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05320" y="36162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91280" y="3600360"/>
            <a:ext cx="14040" cy="10152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9" y="10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91280" y="3600360"/>
            <a:ext cx="1404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64"/>
                </a:moveTo>
                <a:lnTo>
                  <a:pt x="0" y="0"/>
                </a:lnTo>
                <a:lnTo>
                  <a:pt x="0" y="73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2480" y="3600360"/>
            <a:ext cx="2880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18" y="0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2480" y="3600360"/>
            <a:ext cx="2880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0" y="73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32240" y="360036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19" y="0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232240" y="360036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18200" y="3600360"/>
            <a:ext cx="1404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73"/>
                </a:moveTo>
                <a:lnTo>
                  <a:pt x="0" y="10"/>
                </a:lnTo>
                <a:lnTo>
                  <a:pt x="9" y="0"/>
                </a:lnTo>
                <a:lnTo>
                  <a:pt x="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18200" y="3616200"/>
            <a:ext cx="1404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203800" y="36162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03800" y="363060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203800" y="3630600"/>
            <a:ext cx="144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987800" y="337032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973760" y="3355920"/>
            <a:ext cx="14040" cy="7164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73760" y="3355920"/>
            <a:ext cx="1404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9360" y="334152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9" y="9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59360" y="334152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63"/>
                </a:moveTo>
                <a:lnTo>
                  <a:pt x="0" y="0"/>
                </a:lnTo>
                <a:lnTo>
                  <a:pt x="0" y="73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29120" y="334152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19" y="0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29120" y="3341520"/>
            <a:ext cx="30240" cy="115920"/>
          </a:xfrm>
          <a:custGeom>
            <a:avLst/>
            <a:gdLst/>
            <a:ahLst/>
            <a:rect l="l" t="t" r="r" b="b"/>
            <a:pathLst>
              <a:path w="19" h="73">
                <a:moveTo>
                  <a:pt x="19" y="73"/>
                </a:moveTo>
                <a:lnTo>
                  <a:pt x="0" y="0"/>
                </a:lnTo>
                <a:lnTo>
                  <a:pt x="0" y="73"/>
                </a:lnTo>
                <a:lnTo>
                  <a:pt x="1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00680" y="334152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18" y="0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00680" y="3341520"/>
            <a:ext cx="28440" cy="115920"/>
          </a:xfrm>
          <a:custGeom>
            <a:avLst/>
            <a:gdLst/>
            <a:ahLst/>
            <a:rect l="l" t="t" r="r" b="b"/>
            <a:pathLst>
              <a:path w="18" h="73">
                <a:moveTo>
                  <a:pt x="18" y="73"/>
                </a:moveTo>
                <a:lnTo>
                  <a:pt x="0" y="0"/>
                </a:lnTo>
                <a:lnTo>
                  <a:pt x="0" y="73"/>
                </a:lnTo>
                <a:lnTo>
                  <a:pt x="18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86280" y="3341520"/>
            <a:ext cx="14400" cy="115920"/>
          </a:xfrm>
          <a:custGeom>
            <a:avLst/>
            <a:gdLst/>
            <a:ahLst/>
            <a:rect l="l" t="t" r="r" b="b"/>
            <a:pathLst>
              <a:path w="9" h="73">
                <a:moveTo>
                  <a:pt x="9" y="73"/>
                </a:moveTo>
                <a:lnTo>
                  <a:pt x="0" y="9"/>
                </a:lnTo>
                <a:lnTo>
                  <a:pt x="9" y="0"/>
                </a:lnTo>
                <a:lnTo>
                  <a:pt x="9" y="7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86280" y="3355920"/>
            <a:ext cx="14400" cy="101520"/>
          </a:xfrm>
          <a:custGeom>
            <a:avLst/>
            <a:gdLst/>
            <a:ahLst/>
            <a:rect l="l" t="t" r="r" b="b"/>
            <a:pathLst>
              <a:path w="9" h="64">
                <a:moveTo>
                  <a:pt x="9" y="64"/>
                </a:moveTo>
                <a:lnTo>
                  <a:pt x="0" y="0"/>
                </a:lnTo>
                <a:lnTo>
                  <a:pt x="0" y="54"/>
                </a:lnTo>
                <a:lnTo>
                  <a:pt x="9" y="6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1880" y="335592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1880" y="337032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1880" y="337032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086520" y="4438800"/>
            <a:ext cx="1440" cy="5688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72120" y="442440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72120" y="44244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56280" y="4410000"/>
            <a:ext cx="15840" cy="100080"/>
          </a:xfrm>
          <a:custGeom>
            <a:avLst/>
            <a:gdLst/>
            <a:ahLst/>
            <a:rect l="l" t="t" r="r" b="b"/>
            <a:pathLst>
              <a:path w="10" h="63">
                <a:moveTo>
                  <a:pt x="10" y="63"/>
                </a:moveTo>
                <a:lnTo>
                  <a:pt x="0" y="0"/>
                </a:lnTo>
                <a:lnTo>
                  <a:pt x="10" y="9"/>
                </a:lnTo>
                <a:lnTo>
                  <a:pt x="10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56280" y="4410000"/>
            <a:ext cx="15840" cy="114480"/>
          </a:xfrm>
          <a:custGeom>
            <a:avLst/>
            <a:gdLst/>
            <a:ahLst/>
            <a:rect l="l" t="t" r="r" b="b"/>
            <a:pathLst>
              <a:path w="10" h="72">
                <a:moveTo>
                  <a:pt x="10" y="63"/>
                </a:moveTo>
                <a:lnTo>
                  <a:pt x="0" y="0"/>
                </a:lnTo>
                <a:lnTo>
                  <a:pt x="0" y="72"/>
                </a:lnTo>
                <a:lnTo>
                  <a:pt x="10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027840" y="441000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27840" y="441000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99040" y="441000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99040" y="441000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85000" y="4410000"/>
            <a:ext cx="1404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72"/>
                </a:moveTo>
                <a:lnTo>
                  <a:pt x="0" y="9"/>
                </a:lnTo>
                <a:lnTo>
                  <a:pt x="9" y="0"/>
                </a:lnTo>
                <a:lnTo>
                  <a:pt x="9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85000" y="4424400"/>
            <a:ext cx="1404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70600" y="4424400"/>
            <a:ext cx="1440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54"/>
                </a:moveTo>
                <a:lnTo>
                  <a:pt x="0" y="9"/>
                </a:lnTo>
                <a:lnTo>
                  <a:pt x="9" y="0"/>
                </a:lnTo>
                <a:lnTo>
                  <a:pt x="9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70600" y="4438800"/>
            <a:ext cx="1440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0" y="36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70600" y="4438800"/>
            <a:ext cx="1440" cy="5688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16560" y="381780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18"/>
                </a:moveTo>
                <a:lnTo>
                  <a:pt x="0" y="0"/>
                </a:lnTo>
                <a:lnTo>
                  <a:pt x="0" y="36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02520" y="3803760"/>
            <a:ext cx="14040" cy="71280"/>
          </a:xfrm>
          <a:custGeom>
            <a:avLst/>
            <a:gdLst/>
            <a:ahLst/>
            <a:rect l="l" t="t" r="r" b="b"/>
            <a:pathLst>
              <a:path w="9" h="45">
                <a:moveTo>
                  <a:pt x="9" y="45"/>
                </a:moveTo>
                <a:lnTo>
                  <a:pt x="0" y="0"/>
                </a:lnTo>
                <a:lnTo>
                  <a:pt x="9" y="9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02520" y="3803760"/>
            <a:ext cx="14040" cy="85680"/>
          </a:xfrm>
          <a:custGeom>
            <a:avLst/>
            <a:gdLst/>
            <a:ahLst/>
            <a:rect l="l" t="t" r="r" b="b"/>
            <a:pathLst>
              <a:path w="9" h="54">
                <a:moveTo>
                  <a:pt x="9" y="45"/>
                </a:moveTo>
                <a:lnTo>
                  <a:pt x="0" y="0"/>
                </a:lnTo>
                <a:lnTo>
                  <a:pt x="0" y="54"/>
                </a:lnTo>
                <a:lnTo>
                  <a:pt x="9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288120" y="378936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9" y="9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88120" y="3789360"/>
            <a:ext cx="1440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63"/>
                </a:moveTo>
                <a:lnTo>
                  <a:pt x="0" y="0"/>
                </a:lnTo>
                <a:lnTo>
                  <a:pt x="0" y="72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59680" y="378936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59680" y="3789360"/>
            <a:ext cx="2844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30880" y="378936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18" y="0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30880" y="3789360"/>
            <a:ext cx="28800" cy="114480"/>
          </a:xfrm>
          <a:custGeom>
            <a:avLst/>
            <a:gdLst/>
            <a:ahLst/>
            <a:rect l="l" t="t" r="r" b="b"/>
            <a:pathLst>
              <a:path w="18" h="72">
                <a:moveTo>
                  <a:pt x="18" y="72"/>
                </a:moveTo>
                <a:lnTo>
                  <a:pt x="0" y="0"/>
                </a:lnTo>
                <a:lnTo>
                  <a:pt x="0" y="72"/>
                </a:lnTo>
                <a:lnTo>
                  <a:pt x="18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216480" y="3789360"/>
            <a:ext cx="14400" cy="114480"/>
          </a:xfrm>
          <a:custGeom>
            <a:avLst/>
            <a:gdLst/>
            <a:ahLst/>
            <a:rect l="l" t="t" r="r" b="b"/>
            <a:pathLst>
              <a:path w="9" h="72">
                <a:moveTo>
                  <a:pt x="9" y="72"/>
                </a:moveTo>
                <a:lnTo>
                  <a:pt x="0" y="9"/>
                </a:lnTo>
                <a:lnTo>
                  <a:pt x="9" y="0"/>
                </a:lnTo>
                <a:lnTo>
                  <a:pt x="9" y="7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16480" y="3803760"/>
            <a:ext cx="14400" cy="100080"/>
          </a:xfrm>
          <a:custGeom>
            <a:avLst/>
            <a:gdLst/>
            <a:ahLst/>
            <a:rect l="l" t="t" r="r" b="b"/>
            <a:pathLst>
              <a:path w="9" h="63">
                <a:moveTo>
                  <a:pt x="9" y="63"/>
                </a:moveTo>
                <a:lnTo>
                  <a:pt x="0" y="0"/>
                </a:lnTo>
                <a:lnTo>
                  <a:pt x="0" y="54"/>
                </a:lnTo>
                <a:lnTo>
                  <a:pt x="9" y="6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00640" y="3803760"/>
            <a:ext cx="15840" cy="85680"/>
          </a:xfrm>
          <a:custGeom>
            <a:avLst/>
            <a:gdLst/>
            <a:ahLst/>
            <a:rect l="l" t="t" r="r" b="b"/>
            <a:pathLst>
              <a:path w="10" h="54">
                <a:moveTo>
                  <a:pt x="10" y="54"/>
                </a:moveTo>
                <a:lnTo>
                  <a:pt x="0" y="9"/>
                </a:lnTo>
                <a:lnTo>
                  <a:pt x="10" y="0"/>
                </a:lnTo>
                <a:lnTo>
                  <a:pt x="10" y="5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00640" y="3817800"/>
            <a:ext cx="15840" cy="71640"/>
          </a:xfrm>
          <a:custGeom>
            <a:avLst/>
            <a:gdLst/>
            <a:ahLst/>
            <a:rect l="l" t="t" r="r" b="b"/>
            <a:pathLst>
              <a:path w="10" h="45">
                <a:moveTo>
                  <a:pt x="10" y="45"/>
                </a:moveTo>
                <a:lnTo>
                  <a:pt x="0" y="0"/>
                </a:lnTo>
                <a:lnTo>
                  <a:pt x="0" y="36"/>
                </a:lnTo>
                <a:lnTo>
                  <a:pt x="10" y="4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200640" y="3817800"/>
            <a:ext cx="180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18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41920" y="37162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87880" y="324000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70360" y="404820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37240" y="46404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7840" y="44956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27840" y="469728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741920" y="396252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1880" y="40622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73480" y="3846600"/>
            <a:ext cx="8748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71880" y="3789360"/>
            <a:ext cx="8748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96252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54" y="54"/>
                </a:moveTo>
                <a:lnTo>
                  <a:pt x="0" y="54"/>
                </a:lnTo>
                <a:lnTo>
                  <a:pt x="27" y="0"/>
                </a:lnTo>
                <a:lnTo>
                  <a:pt x="54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32520" y="4870440"/>
            <a:ext cx="85680" cy="87480"/>
          </a:xfrm>
          <a:custGeom>
            <a:avLst/>
            <a:gdLst/>
            <a:ahLst/>
            <a:rect l="l" t="t" r="r" b="b"/>
            <a:pathLst>
              <a:path w="54" h="55">
                <a:moveTo>
                  <a:pt x="54" y="55"/>
                </a:moveTo>
                <a:lnTo>
                  <a:pt x="0" y="55"/>
                </a:lnTo>
                <a:lnTo>
                  <a:pt x="27" y="0"/>
                </a:lnTo>
                <a:lnTo>
                  <a:pt x="54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64080" y="38606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62480" y="357192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54" y="55"/>
                </a:moveTo>
                <a:lnTo>
                  <a:pt x="0" y="55"/>
                </a:lnTo>
                <a:lnTo>
                  <a:pt x="27" y="0"/>
                </a:lnTo>
                <a:lnTo>
                  <a:pt x="54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19720" y="3471840"/>
            <a:ext cx="8748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0320" y="4611600"/>
            <a:ext cx="87120" cy="8568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97520" y="386064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53080" y="4206960"/>
            <a:ext cx="85680" cy="87120"/>
          </a:xfrm>
          <a:custGeom>
            <a:avLst/>
            <a:gdLst/>
            <a:ahLst/>
            <a:rect l="l" t="t" r="r" b="b"/>
            <a:pathLst>
              <a:path w="54" h="55">
                <a:moveTo>
                  <a:pt x="54" y="55"/>
                </a:moveTo>
                <a:lnTo>
                  <a:pt x="0" y="55"/>
                </a:lnTo>
                <a:lnTo>
                  <a:pt x="27" y="0"/>
                </a:lnTo>
                <a:lnTo>
                  <a:pt x="54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27840" y="4235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8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85000" y="3817800"/>
            <a:ext cx="87120" cy="86040"/>
          </a:xfrm>
          <a:custGeom>
            <a:avLst/>
            <a:gdLst/>
            <a:ahLst/>
            <a:rect l="l" t="t" r="r" b="b"/>
            <a:pathLst>
              <a:path w="55" h="54">
                <a:moveTo>
                  <a:pt x="55" y="54"/>
                </a:moveTo>
                <a:lnTo>
                  <a:pt x="0" y="54"/>
                </a:lnTo>
                <a:lnTo>
                  <a:pt x="27" y="0"/>
                </a:lnTo>
                <a:lnTo>
                  <a:pt x="55" y="5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59680" y="34416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55"/>
                </a:moveTo>
                <a:lnTo>
                  <a:pt x="0" y="55"/>
                </a:lnTo>
                <a:lnTo>
                  <a:pt x="27" y="0"/>
                </a:lnTo>
                <a:lnTo>
                  <a:pt x="55" y="5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89200" y="35575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89200" y="355752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103720" y="32115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0"/>
                </a:moveTo>
                <a:lnTo>
                  <a:pt x="54" y="54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03720" y="321156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0" y="0"/>
                </a:moveTo>
                <a:lnTo>
                  <a:pt x="54" y="0"/>
                </a:lnTo>
                <a:lnTo>
                  <a:pt x="54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298600" y="37162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98600" y="3716280"/>
            <a:ext cx="8748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79800" y="3457440"/>
            <a:ext cx="87120" cy="8604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0"/>
                </a:moveTo>
                <a:lnTo>
                  <a:pt x="55" y="54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79800" y="3457440"/>
            <a:ext cx="87120" cy="8604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0"/>
                </a:moveTo>
                <a:lnTo>
                  <a:pt x="55" y="0"/>
                </a:lnTo>
                <a:lnTo>
                  <a:pt x="55" y="54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249800" y="4019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249800" y="4019400"/>
            <a:ext cx="87120" cy="8748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935440" y="38466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55"/>
                </a:lnTo>
                <a:lnTo>
                  <a:pt x="0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935440" y="384660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0" y="0"/>
                </a:moveTo>
                <a:lnTo>
                  <a:pt x="55" y="0"/>
                </a:lnTo>
                <a:lnTo>
                  <a:pt x="55" y="55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41720" y="5318280"/>
            <a:ext cx="41194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241720" y="1955880"/>
            <a:ext cx="1440" cy="3362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083200" y="27068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 - 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213160" y="377496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- 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10400" y="33703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-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2057400"/>
            <a:ext cx="2133720" cy="34290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057400" y="2514600"/>
            <a:ext cx="327672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CFB-65BE-4CF6-B89C-8B8AF073D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7315200" cy="59436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i+semi voltine taxa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3429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705720" y="3505320"/>
            <a:ext cx="2209680" cy="2654280"/>
          </a:xfrm>
          <a:prstGeom prst="rect">
            <a:avLst/>
          </a:prstGeom>
          <a:gradFill rotWithShape="0">
            <a:gsLst>
              <a:gs pos="0">
                <a:srgbClr val="00175e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1:  longer LPD, runoff duration, and decreased Q2:Q10, LPC, HPR, Power, FC, &amp; rever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048120" y="2819520"/>
            <a:ext cx="2666880" cy="220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52480" y="2209680"/>
            <a:ext cx="1905120" cy="37339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CC12-6B42-4DFE-A9D2-62774349DB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380880" y="196920"/>
            <a:ext cx="8328240" cy="66610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629400" y="2971800"/>
            <a:ext cx="2133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Func1:  increased LPD, later onset fall flows and later date annual min, &amp; lower Q2:Q10, fewer LPC and fewer revers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A390-BE36-4294-ACBD-BBD885BD32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1600200" y="1219320"/>
          <a:ext cx="5943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94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of High Pulse Period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5FF-F486-48D9-9936-E8F82BB503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alytical and decision tools for manag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derstand relationship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ow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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logical con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20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valuate eff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agement action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lows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9814-1F1B-46FD-A6ED-D72F8060D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00200" y="1295280"/>
          <a:ext cx="5943600" cy="476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5943600" cy="47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ime (in days) Between Low Pulse Events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4AA-0A7E-4A0B-8AE6-71DAB38921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"/>
          <p:cNvGraphicFramePr/>
          <p:nvPr/>
        </p:nvGraphicFramePr>
        <p:xfrm>
          <a:off x="1600200" y="1371600"/>
          <a:ext cx="5943600" cy="47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594360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umber of Low Pulse Events/Yr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30CC-60BC-41ED-A3A6-5899B31749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52480" y="2095560"/>
          <a:ext cx="5943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95560"/>
                    <a:ext cx="5943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tio of current 2-yr discharge to historic 10-yr discharge vs. BIBI grou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F2A3-0C98-4A22-BE06-94F4FDCEBE9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tential Hydrology Indicat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am Pow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2:Q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P/HP counts, duration, r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set fall flo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% time above 2-yr base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e minimum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off event cou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off event du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ers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C3F-3F04-4E0C-A34D-95E31D054E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966-D8F7-4239-B8A9-8CC3E22663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ationships between biology and hydrology  metr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st’ and ‘best’ biological sites can be separated based on hydrology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fe history and richness metrics significantly correlated with specific hydrology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sures of hydrologic ‘disturbance’ and biological resistance/resilience to disturbance may be most produ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511-400A-4CAD-902E-E82313C60A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cument analyses/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e relationships with separate data set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relationships with other biological data (e.g., fis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marize findings for managers – what general guidance can be derived from preliminary analys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F53-821F-4E9F-9350-6224E9DDDB3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946080"/>
            <a:ext cx="1904760" cy="939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man 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3429000"/>
            <a:ext cx="2082960" cy="1092240"/>
          </a:xfrm>
          <a:prstGeom prst="ellipse">
            <a:avLst/>
          </a:prstGeom>
          <a:solidFill>
            <a:srgbClr val="99cc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F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Reg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587600"/>
            <a:ext cx="2171880" cy="114300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tat Struc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2760" y="3390840"/>
            <a:ext cx="2273400" cy="118116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.g., salmon conserv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33480" y="4813200"/>
            <a:ext cx="1942920" cy="43200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Wa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Qu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27200" y="4411800"/>
            <a:ext cx="4407120" cy="699840"/>
          </a:xfrm>
          <a:custGeom>
            <a:avLst/>
            <a:gdLst/>
            <a:ahLst/>
            <a:rect l="l" t="t" r="r" b="b"/>
            <a:pathLst>
              <a:path w="6940" h="1103">
                <a:moveTo>
                  <a:pt x="0" y="260"/>
                </a:moveTo>
                <a:cubicBezTo>
                  <a:pt x="550" y="393"/>
                  <a:pt x="2143" y="1103"/>
                  <a:pt x="3300" y="1060"/>
                </a:cubicBezTo>
                <a:cubicBezTo>
                  <a:pt x="4457" y="1017"/>
                  <a:pt x="6182" y="221"/>
                  <a:pt x="6940" y="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29480" y="2151000"/>
            <a:ext cx="1904760" cy="1143000"/>
          </a:xfrm>
          <a:custGeom>
            <a:avLst/>
            <a:gdLst/>
            <a:ahLst/>
            <a:rect l="l" t="t" r="r" b="b"/>
            <a:pathLst>
              <a:path w="3000" h="1800">
                <a:moveTo>
                  <a:pt x="3000" y="1800"/>
                </a:moveTo>
                <a:cubicBezTo>
                  <a:pt x="2863" y="1567"/>
                  <a:pt x="2680" y="680"/>
                  <a:pt x="2180" y="380"/>
                </a:cubicBezTo>
                <a:cubicBezTo>
                  <a:pt x="1680" y="80"/>
                  <a:pt x="454" y="79"/>
                  <a:pt x="0" y="0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41400" y="2070000"/>
            <a:ext cx="1663920" cy="1236600"/>
          </a:xfrm>
          <a:custGeom>
            <a:avLst/>
            <a:gdLst/>
            <a:ahLst/>
            <a:rect l="l" t="t" r="r" b="b"/>
            <a:pathLst>
              <a:path w="2620" h="1947">
                <a:moveTo>
                  <a:pt x="0" y="1947"/>
                </a:moveTo>
                <a:cubicBezTo>
                  <a:pt x="137" y="1674"/>
                  <a:pt x="383" y="614"/>
                  <a:pt x="820" y="307"/>
                </a:cubicBezTo>
                <a:cubicBezTo>
                  <a:pt x="1257" y="0"/>
                  <a:pt x="2245" y="149"/>
                  <a:pt x="2620" y="10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9280" y="1986120"/>
            <a:ext cx="296640" cy="1562040"/>
          </a:xfrm>
          <a:custGeom>
            <a:avLst/>
            <a:gdLst/>
            <a:ahLst/>
            <a:rect l="l" t="t" r="r" b="b"/>
            <a:pathLst>
              <a:path w="467" h="2460">
                <a:moveTo>
                  <a:pt x="427" y="0"/>
                </a:moveTo>
                <a:cubicBezTo>
                  <a:pt x="357" y="227"/>
                  <a:pt x="0" y="950"/>
                  <a:pt x="7" y="1360"/>
                </a:cubicBezTo>
                <a:cubicBezTo>
                  <a:pt x="14" y="1770"/>
                  <a:pt x="371" y="2231"/>
                  <a:pt x="467" y="2460"/>
                </a:cubicBez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40080" y="4716360"/>
            <a:ext cx="4451400" cy="1135080"/>
          </a:xfrm>
          <a:custGeom>
            <a:avLst/>
            <a:gdLst/>
            <a:ahLst/>
            <a:rect l="l" t="t" r="r" b="b"/>
            <a:pathLst>
              <a:path w="7010" h="1787">
                <a:moveTo>
                  <a:pt x="0" y="1500"/>
                </a:moveTo>
                <a:cubicBezTo>
                  <a:pt x="667" y="1542"/>
                  <a:pt x="2933" y="1787"/>
                  <a:pt x="4000" y="1750"/>
                </a:cubicBezTo>
                <a:cubicBezTo>
                  <a:pt x="5067" y="1713"/>
                  <a:pt x="5898" y="1572"/>
                  <a:pt x="6400" y="1280"/>
                </a:cubicBezTo>
                <a:cubicBezTo>
                  <a:pt x="6900" y="840"/>
                  <a:pt x="6883" y="267"/>
                  <a:pt x="701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2000" y="1116000"/>
            <a:ext cx="1765080" cy="438120"/>
          </a:xfrm>
          <a:custGeom>
            <a:avLst/>
            <a:gdLst/>
            <a:ahLst/>
            <a:rect l="l" t="t" r="r" b="b"/>
            <a:pathLst>
              <a:path w="2780" h="690">
                <a:moveTo>
                  <a:pt x="0" y="150"/>
                </a:moveTo>
                <a:cubicBezTo>
                  <a:pt x="698" y="75"/>
                  <a:pt x="1397" y="0"/>
                  <a:pt x="1860" y="90"/>
                </a:cubicBezTo>
                <a:cubicBezTo>
                  <a:pt x="2323" y="180"/>
                  <a:pt x="2551" y="435"/>
                  <a:pt x="2780" y="6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6680" y="2011320"/>
            <a:ext cx="912960" cy="3645000"/>
          </a:xfrm>
          <a:custGeom>
            <a:avLst/>
            <a:gdLst/>
            <a:ahLst/>
            <a:rect l="l" t="t" r="r" b="b"/>
            <a:pathLst>
              <a:path w="1437" h="5740">
                <a:moveTo>
                  <a:pt x="857" y="0"/>
                </a:moveTo>
                <a:cubicBezTo>
                  <a:pt x="730" y="727"/>
                  <a:pt x="0" y="3403"/>
                  <a:pt x="97" y="4360"/>
                </a:cubicBezTo>
                <a:cubicBezTo>
                  <a:pt x="194" y="5317"/>
                  <a:pt x="1158" y="5453"/>
                  <a:pt x="1437" y="574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70400" y="792000"/>
            <a:ext cx="3606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rows indicate relationships that are important to the technical questions at hand.  The weight of the arrows indicates the degree of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this project’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focus on the indicated relationship – not their overall importance or the merit of studying them in a different projec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3166920"/>
            <a:ext cx="1016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57680" y="3408480"/>
            <a:ext cx="101592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657600"/>
            <a:ext cx="1015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u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11480" y="3941640"/>
            <a:ext cx="1015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sona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8440" y="4297320"/>
            <a:ext cx="13586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e of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362320" y="3382920"/>
            <a:ext cx="152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692440" y="3585960"/>
            <a:ext cx="2160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19520" y="3809520"/>
            <a:ext cx="431640" cy="10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06560" y="4068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54280" y="4259160"/>
            <a:ext cx="3175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5410080"/>
            <a:ext cx="2057400" cy="60984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Biological Intera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6095880"/>
            <a:ext cx="1942920" cy="43200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Energ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Flo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9200" y="2989440"/>
            <a:ext cx="501840" cy="1993680"/>
          </a:xfrm>
          <a:custGeom>
            <a:avLst/>
            <a:gdLst/>
            <a:ahLst/>
            <a:rect l="l" t="t" r="r" b="b"/>
            <a:pathLst>
              <a:path w="790" h="3140">
                <a:moveTo>
                  <a:pt x="250" y="0"/>
                </a:moveTo>
                <a:cubicBezTo>
                  <a:pt x="223" y="390"/>
                  <a:pt x="0" y="1817"/>
                  <a:pt x="90" y="2340"/>
                </a:cubicBezTo>
                <a:cubicBezTo>
                  <a:pt x="180" y="2863"/>
                  <a:pt x="644" y="2973"/>
                  <a:pt x="790" y="314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60" y="3662280"/>
            <a:ext cx="1485720" cy="2603520"/>
          </a:xfrm>
          <a:custGeom>
            <a:avLst/>
            <a:gdLst/>
            <a:ahLst/>
            <a:rect l="l" t="t" r="r" b="b"/>
            <a:pathLst>
              <a:path w="2340" h="4100">
                <a:moveTo>
                  <a:pt x="540" y="0"/>
                </a:moveTo>
                <a:cubicBezTo>
                  <a:pt x="483" y="333"/>
                  <a:pt x="240" y="1680"/>
                  <a:pt x="200" y="2000"/>
                </a:cubicBezTo>
                <a:cubicBezTo>
                  <a:pt x="160" y="2320"/>
                  <a:pt x="0" y="2790"/>
                  <a:pt x="660" y="3200"/>
                </a:cubicBezTo>
                <a:cubicBezTo>
                  <a:pt x="1320" y="3610"/>
                  <a:pt x="2163" y="4052"/>
                  <a:pt x="2340" y="410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84400" y="4919760"/>
            <a:ext cx="4737240" cy="461880"/>
          </a:xfrm>
          <a:custGeom>
            <a:avLst/>
            <a:gdLst/>
            <a:ahLst/>
            <a:rect l="l" t="t" r="r" b="b"/>
            <a:pathLst>
              <a:path w="7460" h="728">
                <a:moveTo>
                  <a:pt x="0" y="300"/>
                </a:moveTo>
                <a:cubicBezTo>
                  <a:pt x="905" y="368"/>
                  <a:pt x="4225" y="692"/>
                  <a:pt x="5430" y="710"/>
                </a:cubicBezTo>
                <a:cubicBezTo>
                  <a:pt x="6635" y="728"/>
                  <a:pt x="6892" y="528"/>
                  <a:pt x="7230" y="410"/>
                </a:cubicBezTo>
                <a:cubicBezTo>
                  <a:pt x="7460" y="210"/>
                  <a:pt x="7412" y="85"/>
                  <a:pt x="746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08360" y="5122800"/>
            <a:ext cx="3975120" cy="1219320"/>
          </a:xfrm>
          <a:custGeom>
            <a:avLst/>
            <a:gdLst/>
            <a:ahLst/>
            <a:rect l="l" t="t" r="r" b="b"/>
            <a:pathLst>
              <a:path w="6260" h="1920">
                <a:moveTo>
                  <a:pt x="0" y="1920"/>
                </a:moveTo>
                <a:cubicBezTo>
                  <a:pt x="653" y="1887"/>
                  <a:pt x="2992" y="1840"/>
                  <a:pt x="3920" y="1720"/>
                </a:cubicBezTo>
                <a:cubicBezTo>
                  <a:pt x="4803" y="1640"/>
                  <a:pt x="5180" y="1487"/>
                  <a:pt x="5570" y="1200"/>
                </a:cubicBezTo>
                <a:cubicBezTo>
                  <a:pt x="5960" y="913"/>
                  <a:pt x="6116" y="250"/>
                  <a:pt x="626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360" y="304920"/>
            <a:ext cx="864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ssues/Challenges - Sci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3D4-2BF4-4BE2-8F09-5B4A617ABC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veral Possible Approaches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dicator-based approac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–  inform manag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ceptual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1752480"/>
            <a:ext cx="3809880" cy="7621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3276720"/>
            <a:ext cx="3657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23080" y="3581280"/>
            <a:ext cx="357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Metrics to Describ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Cond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52880" y="4724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410080"/>
            <a:ext cx="3352680" cy="10670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563868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st Met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2666880"/>
            <a:ext cx="1778040" cy="3276720"/>
          </a:xfrm>
          <a:custGeom>
            <a:avLst/>
            <a:gdLst/>
            <a:ahLst/>
            <a:rect l="l" t="t" r="r" b="b"/>
            <a:pathLst>
              <a:path w="1120" h="2064">
                <a:moveTo>
                  <a:pt x="0" y="2064"/>
                </a:moveTo>
                <a:cubicBezTo>
                  <a:pt x="400" y="2040"/>
                  <a:pt x="800" y="2016"/>
                  <a:pt x="960" y="1776"/>
                </a:cubicBezTo>
                <a:cubicBezTo>
                  <a:pt x="1120" y="1536"/>
                  <a:pt x="1112" y="920"/>
                  <a:pt x="960" y="624"/>
                </a:cubicBezTo>
                <a:cubicBezTo>
                  <a:pt x="808" y="328"/>
                  <a:pt x="200" y="104"/>
                  <a:pt x="48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781680" y="2590560"/>
            <a:ext cx="1526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2209680" cy="205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1520" y="3546360"/>
            <a:ext cx="177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2743200" y="5486040"/>
            <a:ext cx="3808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057400" y="2514600"/>
            <a:ext cx="10666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E9F7-C5C2-4605-BB7E-3ED6D53F1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90360" y="115200"/>
            <a:ext cx="8742960" cy="5333040"/>
            <a:chOff x="90360" y="115200"/>
            <a:chExt cx="8742960" cy="5333040"/>
          </a:xfrm>
        </p:grpSpPr>
        <p:sp>
          <p:nvSpPr>
            <p:cNvPr id="99" name=""/>
            <p:cNvSpPr/>
            <p:nvPr/>
          </p:nvSpPr>
          <p:spPr>
            <a:xfrm>
              <a:off x="2057400" y="1714680"/>
              <a:ext cx="0" cy="3733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5240" y="5448240"/>
              <a:ext cx="4241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26040" y="2447640"/>
              <a:ext cx="3872880" cy="253368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360" y="2247840"/>
              <a:ext cx="4671360" cy="319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0783200">
              <a:off x="4770000" y="2376000"/>
              <a:ext cx="4056480" cy="279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0800000">
              <a:off x="2426040" y="115200"/>
              <a:ext cx="5286240" cy="519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57400" y="5448240"/>
              <a:ext cx="1290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9880" y="5315040"/>
              <a:ext cx="129096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 rot="16187400">
            <a:off x="-455760" y="2895120"/>
            <a:ext cx="34131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iology Metr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recep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149200">
            <a:off x="3496320" y="2858400"/>
            <a:ext cx="43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dicator Respon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4280" y="5562720"/>
            <a:ext cx="4089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ydrology Metric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Stress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ric Relationsh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inking Biology and Hydr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Watersheds with both data typ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Urbanization gradient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Pair biology and hydrology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Subbasins “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Distinct hydrology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2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One or more BIBI sit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Small data set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E0A5-C5B8-4AF1-84F5-79DA5EEFC0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ailable Data:  Hydr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Few long term gauge record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odeled flow data (HSPF) available for some watershed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Developed flow for 50 year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Original forested land cover  - Baselin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Current land cover (1995/1998)  -  Scenario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Computed metrics for both condition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66"/>
                </a:solidFill>
                <a:latin typeface="Times New Roman"/>
              </a:rPr>
              <a:t>M, D, F, T, rates of chang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A609-AD63-4C2B-A199-4AC1E7A6BA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vailable Data: Biolog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</a:rPr>
              <a:t>Macroinvertebrate data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w data for Benthic Index of Biotic Integrity (BIB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IBI - general indicator of ecosystem integ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t designed to assess effects of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nly “calibrated” for 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nd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rder stre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 long term records (1995-2001 longest perio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ested BIBI metrics plus other life history/richness 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C0D-C1D4-42E3-AED4-60C847F4E8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LB" descr=""/>
          <p:cNvPicPr/>
          <p:nvPr/>
        </p:nvPicPr>
        <p:blipFill>
          <a:blip r:embed="rId1"/>
          <a:stretch/>
        </p:blipFill>
        <p:spPr>
          <a:xfrm>
            <a:off x="774720" y="762120"/>
            <a:ext cx="3492360" cy="5487840"/>
          </a:xfrm>
          <a:prstGeom prst="rect">
            <a:avLst/>
          </a:prstGeom>
          <a:ln w="0">
            <a:noFill/>
          </a:ln>
        </p:spPr>
      </p:pic>
      <p:pic>
        <p:nvPicPr>
          <p:cNvPr id="118" name="lbpoi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241880" cy="54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King County DNRP/Parametrix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F449-3F9F-4E0D-A96D-545C94E9F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9T21:26:51Z</dcterms:created>
  <dc:creator>Jan Cassin</dc:creator>
  <dc:description/>
  <dc:language>en-US</dc:language>
  <cp:lastModifiedBy>Jan Cassin</cp:lastModifiedBy>
  <dcterms:modified xsi:type="dcterms:W3CDTF">2004-11-19T00:58:21Z</dcterms:modified>
  <cp:revision>41</cp:revision>
  <dc:subject/>
  <dc:title>PowerPoint Presentation</dc:title>
</cp:coreProperties>
</file>